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E6E-B6D6-492A-A200-F6B7750B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BBE-00C8-4C8C-9FA5-CDDB7B07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545-3954-400E-B81C-6F821624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071-317F-4115-8534-49A173BD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B4D-5846-4497-9BE6-FA946E65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024-5AA3-44EE-97E1-150A594C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F68-66B7-45FD-BBF9-3DBA8367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64F-85D5-4D12-9A68-B4CABBB2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0A2-DE92-49C5-B50E-3AD426CC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EAE-E909-4B4A-804F-FA3775AF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324-D079-4D75-ADB7-B5C85524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D37-4BCD-413D-9F14-C1CF672C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1A39-CDCB-42FA-97B9-6FCFA94F2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ade@white.stanford.ed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rFlatMe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2320" y="2438280"/>
            <a:ext cx="3886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7 08/29/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R. Wad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ade@white.stanford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updated: 08/29/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3276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: Don’t dec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mrGray5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57830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276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: Don’t smooth here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mrGray6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830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2743200"/>
            <a:ext cx="2590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: Make sure you save the mes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.MrM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rGray7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783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rGray8" descr=""/>
          <p:cNvPicPr/>
          <p:nvPr/>
        </p:nvPicPr>
        <p:blipFill>
          <a:blip r:embed="rId1"/>
          <a:stretch/>
        </p:blipFill>
        <p:spPr>
          <a:xfrm>
            <a:off x="1066680" y="2225520"/>
            <a:ext cx="6948720" cy="463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2120" y="1676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: This is the sort of thing you’ll end up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2952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aking the mesh, pick a start point in mrG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order of the coordinates: Z,Y,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mrGray9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1911240" cy="4267080"/>
          </a:xfrm>
          <a:prstGeom prst="rect">
            <a:avLst/>
          </a:prstGeom>
          <a:ln w="0">
            <a:noFill/>
          </a:ln>
        </p:spPr>
      </p:pic>
      <p:pic>
        <p:nvPicPr>
          <p:cNvPr id="101" name="mrGray8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3337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w run mrFlatMe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unfoldMeshImage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721040" cy="5108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51055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648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0880" y="990720"/>
            <a:ext cx="81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the relevant files, enter the appropriate start points and g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s it run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57704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73392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us bar and status window will keep you informed about what’s going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038480"/>
            <a:ext cx="25909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343400"/>
            <a:ext cx="20574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ight_tal_layers" descr=""/>
          <p:cNvPicPr/>
          <p:nvPr/>
        </p:nvPicPr>
        <p:blipFill>
          <a:blip r:embed="rId1"/>
          <a:srcRect l="8337" t="0" r="8293" b="5501"/>
          <a:stretch/>
        </p:blipFill>
        <p:spPr>
          <a:xfrm>
            <a:off x="5943600" y="3962520"/>
            <a:ext cx="3048120" cy="259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914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get to see the unfolded mesh, the manifold distance map, the layer 1 gNodes (with their interconnections) and the 2D locations of all the g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right_tal_l1gray" descr=""/>
          <p:cNvPicPr/>
          <p:nvPr/>
        </p:nvPicPr>
        <p:blipFill>
          <a:blip r:embed="rId2"/>
          <a:srcRect l="12507" t="0" r="8293" b="11061"/>
          <a:stretch/>
        </p:blipFill>
        <p:spPr>
          <a:xfrm>
            <a:off x="4267080" y="1965240"/>
            <a:ext cx="2286000" cy="1924200"/>
          </a:xfrm>
          <a:prstGeom prst="rect">
            <a:avLst/>
          </a:prstGeom>
          <a:ln w="0">
            <a:noFill/>
          </a:ln>
        </p:spPr>
      </p:pic>
      <p:pic>
        <p:nvPicPr>
          <p:cNvPr id="117" name="right_tal_mesh" descr=""/>
          <p:cNvPicPr/>
          <p:nvPr/>
        </p:nvPicPr>
        <p:blipFill>
          <a:blip r:embed="rId3"/>
          <a:srcRect l="18000" t="0" r="14000" b="6001"/>
          <a:stretch/>
        </p:blipFill>
        <p:spPr>
          <a:xfrm>
            <a:off x="0" y="2666880"/>
            <a:ext cx="227808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right_tal_distMap" descr=""/>
          <p:cNvPicPr/>
          <p:nvPr/>
        </p:nvPicPr>
        <p:blipFill>
          <a:blip r:embed="rId4"/>
          <a:srcRect l="20000" t="0" r="5002" b="3998"/>
          <a:stretch/>
        </p:blipFill>
        <p:spPr>
          <a:xfrm>
            <a:off x="2209680" y="3886200"/>
            <a:ext cx="2667240" cy="2560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3276360" y="1143000"/>
            <a:ext cx="2057400" cy="30481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410080" y="1600200"/>
            <a:ext cx="152640" cy="5335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447920" y="1219320"/>
            <a:ext cx="1218960" cy="1523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s it run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467120" y="1752480"/>
            <a:ext cx="381240" cy="24386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’s in flat.m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686040" cy="18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 flipH="1">
            <a:off x="4190760" y="2133720"/>
            <a:ext cx="1904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114440" y="2514240"/>
            <a:ext cx="2057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191120" y="2666880"/>
            <a:ext cx="2209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038480" y="2971800"/>
            <a:ext cx="19051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33520" y="28191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16765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vature map from mrGray – used to make flat anat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3657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 locations of gray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25146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locations of flattened gray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472428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thing that was printed in the status window during the unf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886200"/>
            <a:ext cx="42670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ful unfold para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Str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Time: '20-Feb-2001 11:38:42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Time: '20-Feb-2001 11:44:51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mType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hFile: [1x56 ch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yFile: [1x56 ch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 etc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ample data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590920"/>
            <a:ext cx="8458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usr/local/matlab/toolbox/mri/mrFlatMesh/exampleDat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does it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765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fol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shes generated by mrGray’s 3D visualisation rou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ay layers to the unfolded mesh to generate a flat.mat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source code and mex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82880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usr/local/matlab/toolbox/mri/mrFlatMesh/Csourc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971800"/>
            <a:ext cx="8686800" cy="37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required for mrFlat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ManDi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veryone’s favorite manifold distance rout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: Replaced by 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jikst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in recent ver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ToNeare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two sets of 3D coords and for each point in the first set, returns the index of the nearest point in the second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&gt; a=rand(10,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&gt; b=rand(5,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&gt; c=assignToNearest(a,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 is now a 5x1 vector containing and index into ‘a’ for each member of ‘b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elp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9810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nline help system is provid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76680" cy="4952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9880" y="2362320"/>
            <a:ext cx="4114800" cy="274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048120"/>
            <a:ext cx="441972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ose interested, the callback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eb1 = 'web([''file:///'' which(''unfoldMeshHelp.html'')],''browser'')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eb2 = 'web([''file:///'' which(''unfoldMeshHelp.html'')])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val(web1,web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ther questions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600200"/>
            <a:ext cx="85345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don’t like GU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Try (and look at and copy and ed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consoleUnf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it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t is much faster and it generates sane-looking retinotopies. I have no numbers on the relative distortions between mrUnfold and mrFlatMe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ther questions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76520"/>
            <a:ext cx="83055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all gone wr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Make sure you’ve made the mesh properly and that the voxel sizes in mrFlatMesh and mrGray match. Also, note that you must use the &gt;new&lt; version of mrGray (the one that saves out mesh voxel sizes). You can get thi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red/u2/pc/dist/mrGray.exe if it’s not already in your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mote users can download i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hite.stanford.edu/~brian/mri/segmentUnfold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’re still stuck,  email wade@white.stanford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arison with mrUnf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024080" cy="3651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3625920" cy="3657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21160" y="179388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Unfold (50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6360" y="175248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FlatMesh 1.0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0m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ugs and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133720"/>
            <a:ext cx="66294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jor bug was discovered in v1.0. This causes some layer 1 gNodes to become mis-assigned or removed altogether. In general, this makes the resulting flat maps a little ‘rougher’ or blurrier. There should not be any significant qualitative changes to the data. This bug is fixed in v 1.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FlatMesh is now believed to run under solaris 2.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run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rFlatMe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matlab promp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rFlatMesh brings up mrFlatMesh.fi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unfoldMeshImage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721040" cy="5108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54100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638680" y="6019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75248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219320" y="3809880"/>
            <a:ext cx="1447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086240" y="37339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2767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327672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4792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of the .gray f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ted by mr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43828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of the .MrM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ted by mr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12408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s of star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ound in mrGr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26708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radius of the unf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814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us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57150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us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31240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m per voxel in mrGray – default se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638320" y="47242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42670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 file path : “flat.mat”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172200" y="51814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50292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ML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does it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371600"/>
            <a:ext cx="8001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h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h f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is is generated when you run mrGray’s 3D visualisation rout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y f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se are the gray nodes that will be mapped to the mesh. Save this out from mrG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 file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rFlatMesh will save a “flat.mat” file. You can call it anything you lik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7524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 Once you’ve segmented your white matter in mrGray, gro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fewer) layers of gray matter. Save the gray matter in a file with a .gray suffi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mrGray1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43434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752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Then open the 3D visualisation menu. You will see a series of tabbed option screen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rGray2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5181480" cy="4128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867280" y="3200400"/>
            <a:ext cx="2895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 the white/ gray bound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‘marching cubes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note of the voxel dimen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mrGray3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867640" cy="4673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72200" y="32767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: Don’t overlay any functional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76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 Don’t sm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rGray4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57830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23:01:30Z</dcterms:created>
  <dc:creator>Alex Wade</dc:creator>
  <dc:description/>
  <dc:language>en-US</dc:language>
  <cp:lastModifiedBy>wade</cp:lastModifiedBy>
  <dcterms:modified xsi:type="dcterms:W3CDTF">2001-09-04T17:37:17Z</dcterms:modified>
  <cp:revision>14</cp:revision>
  <dc:subject/>
  <dc:title>New unfold procedures</dc:title>
</cp:coreProperties>
</file>