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726-9B9E-4F2A-8369-C55483B5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F45-424D-4C00-8DCA-7DA38AD2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875-6A9C-4B3F-9F8E-408A6D33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B71-8BB3-4382-AFB0-2E902FE1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825-827C-4ADB-8F5D-2DF70603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19D-957F-4F04-8DA4-08B80812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0C27-B97A-4C54-992D-B97749C3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5346-2F7F-4FB0-835F-5A05A05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B89-B314-4FBC-A721-3D766324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800-9402-41D9-A900-AC5A4CB5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54D-3F67-464B-B4CF-2B55F2D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E0C-36F7-412C-A980-21C1E291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F187-A7B5-48B3-BD15-B6AB6A37F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ade@white.stanford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2320" y="2438280"/>
            <a:ext cx="38862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.7 08/29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R. Wad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ade@white.stanfor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updated: 08/29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276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: Don’t dec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mrGray5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2767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: Don’t smooth here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rGray6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2743200"/>
            <a:ext cx="2590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 Make sure you save the mes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.MrM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rGray7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783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mrGray8" descr=""/>
          <p:cNvPicPr/>
          <p:nvPr/>
        </p:nvPicPr>
        <p:blipFill>
          <a:blip r:embed="rId1"/>
          <a:stretch/>
        </p:blipFill>
        <p:spPr>
          <a:xfrm>
            <a:off x="1066680" y="2225520"/>
            <a:ext cx="6948720" cy="4632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120" y="1676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: This is the sort of thing you’ll end up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952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making the mesh, pick a start point in mrG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order of the coordinates: Z,Y,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mrGray9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911240" cy="4267080"/>
          </a:xfrm>
          <a:prstGeom prst="rect">
            <a:avLst/>
          </a:prstGeom>
          <a:ln w="0">
            <a:noFill/>
          </a:ln>
        </p:spPr>
      </p:pic>
      <p:pic>
        <p:nvPicPr>
          <p:cNvPr id="101" name="mrGray8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w run 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unfoldMeshImage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21040" cy="5108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51055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648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0880" y="990720"/>
            <a:ext cx="81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relevant files, enter the appropriate start points and g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s it ru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704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73392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us bar and status window will keep you informed about what’s going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038480"/>
            <a:ext cx="259092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343400"/>
            <a:ext cx="20574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ight_tal_layers" descr=""/>
          <p:cNvPicPr/>
          <p:nvPr/>
        </p:nvPicPr>
        <p:blipFill>
          <a:blip r:embed="rId1"/>
          <a:srcRect l="8337" t="0" r="8293" b="5501"/>
          <a:stretch/>
        </p:blipFill>
        <p:spPr>
          <a:xfrm>
            <a:off x="5943600" y="3962520"/>
            <a:ext cx="3048120" cy="2590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914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to see the unfolded mesh, the manifold distance map, the layer 1 gNodes (with their interconnections) and the 2D locations of all the g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ight_tal_l1gray" descr=""/>
          <p:cNvPicPr/>
          <p:nvPr/>
        </p:nvPicPr>
        <p:blipFill>
          <a:blip r:embed="rId2"/>
          <a:srcRect l="12507" t="0" r="8293" b="11061"/>
          <a:stretch/>
        </p:blipFill>
        <p:spPr>
          <a:xfrm>
            <a:off x="4267080" y="1965240"/>
            <a:ext cx="2286000" cy="1924200"/>
          </a:xfrm>
          <a:prstGeom prst="rect">
            <a:avLst/>
          </a:prstGeom>
          <a:ln w="0">
            <a:noFill/>
          </a:ln>
        </p:spPr>
      </p:pic>
      <p:pic>
        <p:nvPicPr>
          <p:cNvPr id="117" name="right_tal_mesh" descr=""/>
          <p:cNvPicPr/>
          <p:nvPr/>
        </p:nvPicPr>
        <p:blipFill>
          <a:blip r:embed="rId3"/>
          <a:srcRect l="18000" t="0" r="14000" b="6001"/>
          <a:stretch/>
        </p:blipFill>
        <p:spPr>
          <a:xfrm>
            <a:off x="0" y="2666880"/>
            <a:ext cx="227808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right_tal_distMap" descr=""/>
          <p:cNvPicPr/>
          <p:nvPr/>
        </p:nvPicPr>
        <p:blipFill>
          <a:blip r:embed="rId4"/>
          <a:srcRect l="20000" t="0" r="5002" b="3998"/>
          <a:stretch/>
        </p:blipFill>
        <p:spPr>
          <a:xfrm>
            <a:off x="2209680" y="3886200"/>
            <a:ext cx="2667240" cy="256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H="1">
            <a:off x="3276360" y="1143000"/>
            <a:ext cx="2057400" cy="30481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10080" y="1600200"/>
            <a:ext cx="152640" cy="5335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920" y="1219320"/>
            <a:ext cx="1218960" cy="1523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s it run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467120" y="1752480"/>
            <a:ext cx="381240" cy="24386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in flat.m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686040" cy="18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 flipH="1">
            <a:off x="4190760" y="2133720"/>
            <a:ext cx="1904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4114440" y="2514240"/>
            <a:ext cx="2057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191120" y="2666880"/>
            <a:ext cx="2209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038480" y="2971800"/>
            <a:ext cx="19051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33520" y="28191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167652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vature map from mrGray – used to make flat 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6576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 locations of gray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5146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locations of flattened gray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7242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rything that was printed in the status window during the un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86200"/>
            <a:ext cx="42670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ful unfold para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Str =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Time: '20-Feb-2001 11:38:42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Time: '20-Feb-2001 11:44:51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mType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hFile: [1x56 ch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yFile: [1x56 char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 etc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ample data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590920"/>
            <a:ext cx="8458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usr/local/matlab/toolbox/mri/mrFlatMesh/exampleData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765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fol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eshes generated by mrGray’s 3D visualisation rou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ray layers to the unfolded mesh to generate a flat.mat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source code and mex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82880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usr/local/matlab/toolbox/mri/mrFlatMesh/Csourc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2971800"/>
            <a:ext cx="868680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les required for mrFlat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ManDi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veryone’s favorite manifold distance rout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: Replaced by 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jikst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 in recent ver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ignToNeare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two sets of 3D coords and for each point in the first set, returns the index of the nearest point in the second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a=rand(10,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b=rand(5,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&gt; c=assignToNearest(a,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 is now a 5x1 vector containing and index into ‘a’ for each member of ‘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lp 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981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nline help system is provi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76680" cy="4952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9880" y="2362320"/>
            <a:ext cx="4114800" cy="274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48120"/>
            <a:ext cx="44197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ose interested, the callback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1 = 'web([''file:///'' which(''unfoldMeshHelp.html'')],''browser'')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2 = 'web([''file:///'' which(''unfoldMeshHelp.html'')])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val(web1,web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her questions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600200"/>
            <a:ext cx="85345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don’t like GU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Try (and look at and copy and edi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consoleUnf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it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t is much faster and it generates sane-looking retinotopies. I have no numbers on the relative distortions between mrUnfold and mrFlatMe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ther questions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76520"/>
            <a:ext cx="83055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all gone wr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ke sure you’ve made the mesh properly and that the voxel sizes in mrFlatMesh and mrGray match. Also, note that you must use the &gt;new&lt; version of mrGray (the one that saves out mesh voxel sizes). You can get thi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red/u2/pc/dist/mrGray.exe if it’s not already in your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mote users can download i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hite.stanford.edu/~brian/mri/segmentUnfold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’re still stuck,  email wade@white.stanford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arison with mrUnf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024080" cy="3651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362592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21160" y="17938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Unfold (50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6360" y="175248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FlatMesh 1.0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0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gs an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133720"/>
            <a:ext cx="66294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bug was discovered in v1.0. This causes some layer 1 gNodes to become mis-assigned or removed altogether. In general, this makes the resulting flat maps a little ‘rougher’ or blurrier. There should not be any significant qualitative changes to the data. This bug is fixed in v 1.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FlatMesh is now believed to run under solaris 2.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run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rFlatMe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the matlab promp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mrFlatMesh brings up mrFlatMesh.fi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foldMeshImage" descr=""/>
          <p:cNvPicPr/>
          <p:nvPr/>
        </p:nvPicPr>
        <p:blipFill>
          <a:blip r:embed="rId1"/>
          <a:stretch/>
        </p:blipFill>
        <p:spPr>
          <a:xfrm>
            <a:off x="2362320" y="1447920"/>
            <a:ext cx="4721040" cy="510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66680" y="54100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638680" y="6019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752480"/>
            <a:ext cx="10666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2743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219320" y="3809880"/>
            <a:ext cx="1447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086240" y="37339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2767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327672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44792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of the .gray f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ed by mr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4382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of the .MrM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nerated by mrG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124080"/>
            <a:ext cx="3124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rds of star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ound in mrGr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2670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radius of the unf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s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57150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us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312408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m per voxel in mrGray – default se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638320" y="4724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42670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 file path : “flat.mat”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172200" y="51814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50292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ML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does it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371600"/>
            <a:ext cx="8001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h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h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is is generated when you run mrGray’s 3D visualisation rou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y fi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se are the gray nodes that will be mapped to the mesh. Save this out from mrGr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 file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rFlatMesh will save a “flat.mat” file. You can call it anything you lik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7524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 Once you’ve segmented your white matter in mrGray, gro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fewer) layers of gray matter. Save the gray matter in a file with a .gray suffi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mrGray1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4343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752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Then open the 3D visualisation menu. You will see a series of tabbed option screen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rGray2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5181480" cy="412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867280" y="3200400"/>
            <a:ext cx="28958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 the white/ gray bound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‘marching cubes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a note of the voxel dimens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mrGray3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867640" cy="467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72200" y="32767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: Don’t overlay any function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w do I make a mesh?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76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 Don’t sm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rGray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5783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23:01:30Z</dcterms:created>
  <dc:creator>Alex Wade</dc:creator>
  <dc:description/>
  <dc:language>en-US</dc:language>
  <cp:lastModifiedBy>wade</cp:lastModifiedBy>
  <dcterms:modified xsi:type="dcterms:W3CDTF">2001-09-04T17:37:17Z</dcterms:modified>
  <cp:revision>14</cp:revision>
  <dc:subject/>
  <dc:title>New unfold procedures</dc:title>
</cp:coreProperties>
</file>