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0800" y="706320"/>
            <a:ext cx="4646880" cy="348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487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c23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dc23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gothic"/>
              </a:rPr>
              <a:t>Structured quer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gothic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gothic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gothic"/>
              </a:rPr>
              <a:t>select * where subject=‘wade’ and experiment=‘retinotopy’ or experiment=‘mt reference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gothic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gothic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gothic"/>
              </a:rPr>
              <a:t>select * where experiment=‘retinotopy’ and scanDate&gt;’1999-05-28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gothic"/>
              </a:rPr>
              <a:t>Efficient data structure- eg. Each person is only entered once, in the ‘people’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gothic"/>
              </a:rPr>
              <a:t>Scalable- these databases can search hundreds of thousands of entries in a couple 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26600" y="33480"/>
            <a:ext cx="8288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487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c23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9040" y="1292400"/>
            <a:ext cx="842328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48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9040" y="4009680"/>
            <a:ext cx="842328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48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6600" y="33480"/>
            <a:ext cx="8288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487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c2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292400"/>
            <a:ext cx="411048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48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5440" y="1292400"/>
            <a:ext cx="411048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48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9040" y="4009680"/>
            <a:ext cx="411048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48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5440" y="4009680"/>
            <a:ext cx="411048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48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6600" y="33480"/>
            <a:ext cx="8288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487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c23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9040" y="1292400"/>
            <a:ext cx="271188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48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67000" y="1292400"/>
            <a:ext cx="271188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48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14600" y="1292400"/>
            <a:ext cx="271188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48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19040" y="4009680"/>
            <a:ext cx="271188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48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67000" y="4009680"/>
            <a:ext cx="271188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48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14600" y="4009680"/>
            <a:ext cx="271188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48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26600" y="33480"/>
            <a:ext cx="8288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487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c2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19040" y="1292400"/>
            <a:ext cx="8423280" cy="52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6600" y="33480"/>
            <a:ext cx="8288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487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c23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19040" y="1292400"/>
            <a:ext cx="842328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48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6600" y="33480"/>
            <a:ext cx="8288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487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c23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19040" y="1292400"/>
            <a:ext cx="411048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48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5440" y="1292400"/>
            <a:ext cx="411048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48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6600" y="33480"/>
            <a:ext cx="8288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487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c2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26600" y="33480"/>
            <a:ext cx="8288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6600" y="33480"/>
            <a:ext cx="8288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487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c23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9040" y="1292400"/>
            <a:ext cx="411048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48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5440" y="1292400"/>
            <a:ext cx="411048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48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19040" y="4009680"/>
            <a:ext cx="411048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48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6600" y="33480"/>
            <a:ext cx="8288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487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c23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9040" y="1292400"/>
            <a:ext cx="411048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48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5440" y="1292400"/>
            <a:ext cx="411048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48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5440" y="4009680"/>
            <a:ext cx="411048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48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6600" y="33480"/>
            <a:ext cx="8288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487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dc23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9040" y="1292400"/>
            <a:ext cx="411048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48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5440" y="1292400"/>
            <a:ext cx="411048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48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9040" y="4009680"/>
            <a:ext cx="842328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487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6600" y="33480"/>
            <a:ext cx="8288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487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dc23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dc2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9040" y="1292400"/>
            <a:ext cx="842328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ts val="3487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9800" indent="-282600">
              <a:lnSpc>
                <a:spcPts val="3487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ts val="3487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ts val="3487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ts val="3487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lnSpc>
                <a:spcPts val="3487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lnSpc>
                <a:spcPts val="3487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6960" y="-12600"/>
            <a:ext cx="829008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487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dc2300"/>
                </a:solidFill>
                <a:latin typeface="Comic Sans MS"/>
              </a:rPr>
              <a:t>Integrating Database &amp; Analysis</a:t>
            </a:r>
            <a:endParaRPr b="0" lang="en-US" sz="3600" spc="-1" strike="noStrike">
              <a:solidFill>
                <a:srgbClr val="dc23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1090440"/>
            <a:ext cx="7162920" cy="573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6960" y="-12600"/>
            <a:ext cx="829008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487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dc2300"/>
                </a:solidFill>
                <a:latin typeface="Comic Sans MS"/>
              </a:rPr>
              <a:t>MrData</a:t>
            </a:r>
            <a:endParaRPr b="0" lang="en-US" sz="3600" spc="-1" strike="noStrike">
              <a:solidFill>
                <a:srgbClr val="dc23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18680" y="1292040"/>
            <a:ext cx="842508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ts val="3487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ntral datab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9800" indent="-282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mi-automated data logging integrated with analysis tools (matlab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9800" indent="-282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b interface for browsing &amp; data entry from scann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6960" y="33480"/>
            <a:ext cx="82900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87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dc2300"/>
                </a:solidFill>
                <a:latin typeface="Comic Sans MS"/>
              </a:rPr>
              <a:t>MrData</a:t>
            </a:r>
            <a:endParaRPr b="0" lang="en-US" sz="3600" spc="-1" strike="noStrike">
              <a:solidFill>
                <a:srgbClr val="dc23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18680" y="1292040"/>
            <a:ext cx="842508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ts val="3487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tabase records and organiz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9800" indent="-282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cans: grant, session, subject, operator, et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9800" indent="-282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O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9800" indent="-282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rge data files (only path info stored in DB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9800" indent="-282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 mesh data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6960" y="-12600"/>
            <a:ext cx="829008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487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dc2300"/>
                </a:solidFill>
                <a:latin typeface="Comic Sans MS"/>
              </a:rPr>
              <a:t>MrData Advantages</a:t>
            </a:r>
            <a:endParaRPr b="0" lang="en-US" sz="3600" spc="-1" strike="noStrike">
              <a:solidFill>
                <a:srgbClr val="dc23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8680" y="1292040"/>
            <a:ext cx="842508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ts val="4011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QL-based database eng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39800" indent="-282600">
              <a:lnSpc>
                <a:spcPct val="11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ntralized, structured queries, efficient data structure, scal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9800" indent="-282600">
              <a:lnSpc>
                <a:spcPct val="112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erces us to do careful data logging (mostly automated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112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Data maintained from Matlab and/or web interfa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338040" y="3649680"/>
            <a:ext cx="1100160" cy="453960"/>
            <a:chOff x="338040" y="3649680"/>
            <a:chExt cx="1100160" cy="453960"/>
          </a:xfrm>
        </p:grpSpPr>
        <p:sp>
          <p:nvSpPr>
            <p:cNvPr id="52" name=""/>
            <p:cNvSpPr/>
            <p:nvPr/>
          </p:nvSpPr>
          <p:spPr>
            <a:xfrm>
              <a:off x="338040" y="3649680"/>
              <a:ext cx="1100160" cy="453960"/>
            </a:xfrm>
            <a:prstGeom prst="roundRect">
              <a:avLst>
                <a:gd name="adj" fmla="val 347"/>
              </a:avLst>
            </a:prstGeom>
            <a:solidFill>
              <a:srgbClr val="e6e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8040" y="3748320"/>
              <a:ext cx="110016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Sess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7996320" y="1192320"/>
            <a:ext cx="1028520" cy="530280"/>
            <a:chOff x="7996320" y="1192320"/>
            <a:chExt cx="1028520" cy="530280"/>
          </a:xfrm>
        </p:grpSpPr>
        <p:sp>
          <p:nvSpPr>
            <p:cNvPr id="55" name=""/>
            <p:cNvSpPr/>
            <p:nvPr/>
          </p:nvSpPr>
          <p:spPr>
            <a:xfrm>
              <a:off x="7996320" y="1192320"/>
              <a:ext cx="1028520" cy="530280"/>
            </a:xfrm>
            <a:prstGeom prst="roundRect">
              <a:avLst>
                <a:gd name="adj" fmla="val 296"/>
              </a:avLst>
            </a:prstGeom>
            <a:solidFill>
              <a:srgbClr val="e6e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996320" y="1329840"/>
              <a:ext cx="10285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Us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33520" y="5486400"/>
            <a:ext cx="871560" cy="590400"/>
            <a:chOff x="533520" y="5486400"/>
            <a:chExt cx="871560" cy="590400"/>
          </a:xfrm>
        </p:grpSpPr>
        <p:sp>
          <p:nvSpPr>
            <p:cNvPr id="58" name=""/>
            <p:cNvSpPr/>
            <p:nvPr/>
          </p:nvSpPr>
          <p:spPr>
            <a:xfrm>
              <a:off x="533520" y="5486400"/>
              <a:ext cx="871560" cy="590400"/>
            </a:xfrm>
            <a:prstGeom prst="roundRect">
              <a:avLst>
                <a:gd name="adj" fmla="val 269"/>
              </a:avLst>
            </a:prstGeom>
            <a:solidFill>
              <a:srgbClr val="e6e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3520" y="5653080"/>
              <a:ext cx="86976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Gra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990720" y="4495680"/>
            <a:ext cx="723960" cy="955800"/>
            <a:chOff x="990720" y="4495680"/>
            <a:chExt cx="723960" cy="955800"/>
          </a:xfrm>
        </p:grpSpPr>
        <p:grpSp>
          <p:nvGrpSpPr>
            <p:cNvPr id="61" name=""/>
            <p:cNvGrpSpPr/>
            <p:nvPr/>
          </p:nvGrpSpPr>
          <p:grpSpPr>
            <a:xfrm>
              <a:off x="990720" y="4602240"/>
              <a:ext cx="723960" cy="550800"/>
              <a:chOff x="990720" y="4602240"/>
              <a:chExt cx="723960" cy="550800"/>
            </a:xfrm>
          </p:grpSpPr>
          <p:sp>
            <p:nvSpPr>
              <p:cNvPr id="62" name=""/>
              <p:cNvSpPr/>
              <p:nvPr/>
            </p:nvSpPr>
            <p:spPr>
              <a:xfrm>
                <a:off x="990720" y="4602240"/>
                <a:ext cx="723960" cy="550800"/>
              </a:xfrm>
              <a:custGeom>
                <a:avLst/>
                <a:gdLst/>
                <a:ahLst/>
                <a:rect l="l" t="t" r="r" b="b"/>
                <a:pathLst>
                  <a:path w="2012" h="1532">
                    <a:moveTo>
                      <a:pt x="964" y="39"/>
                    </a:moveTo>
                    <a:lnTo>
                      <a:pt x="0" y="773"/>
                    </a:lnTo>
                    <a:lnTo>
                      <a:pt x="992" y="1531"/>
                    </a:lnTo>
                    <a:lnTo>
                      <a:pt x="2011" y="755"/>
                    </a:lnTo>
                    <a:lnTo>
                      <a:pt x="1019" y="0"/>
                    </a:lnTo>
                    <a:lnTo>
                      <a:pt x="964" y="39"/>
                    </a:lnTo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990720" y="4777560"/>
                <a:ext cx="723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fund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1545480" y="4495680"/>
              <a:ext cx="115920" cy="274680"/>
              <a:chOff x="1545480" y="4495680"/>
              <a:chExt cx="115920" cy="274680"/>
            </a:xfrm>
          </p:grpSpPr>
          <p:sp>
            <p:nvSpPr>
              <p:cNvPr id="65" name=""/>
              <p:cNvSpPr/>
              <p:nvPr/>
            </p:nvSpPr>
            <p:spPr>
              <a:xfrm>
                <a:off x="1546200" y="4495680"/>
                <a:ext cx="114480" cy="274680"/>
              </a:xfrm>
              <a:custGeom>
                <a:avLst/>
                <a:gdLst>
                  <a:gd name="textAreaLeft" fmla="*/ 360 w 114480"/>
                  <a:gd name="textAreaRight" fmla="*/ 114120 w 114480"/>
                  <a:gd name="textAreaTop" fmla="*/ 360 h 274680"/>
                  <a:gd name="textAreaBottom" fmla="*/ 274320 h 274680"/>
                </a:gdLst>
                <a:ahLst/>
                <a:rect l="textAreaLeft" t="textAreaTop" r="textAreaRight" b="textAreaBottom"/>
                <a:pathLst>
                  <a:path w="21600" h="51732">
                    <a:moveTo>
                      <a:pt x="300" y="0"/>
                    </a:moveTo>
                    <a:arcTo wR="300" hR="300" stAng="16200000" swAng="-5400000"/>
                    <a:lnTo>
                      <a:pt x="0" y="51432"/>
                    </a:lnTo>
                    <a:arcTo wR="300" hR="300" stAng="10800000" swAng="-5400000"/>
                    <a:lnTo>
                      <a:pt x="21300" y="51732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545480" y="4495680"/>
                <a:ext cx="115920" cy="255960"/>
              </a:xfrm>
              <a:custGeom>
                <a:avLst/>
                <a:gdLst>
                  <a:gd name="textAreaLeft" fmla="*/ 360 w 115920"/>
                  <a:gd name="textAreaRight" fmla="*/ 115560 w 115920"/>
                  <a:gd name="textAreaTop" fmla="*/ 360 h 255960"/>
                  <a:gd name="textAreaBottom" fmla="*/ 255600 h 255960"/>
                </a:gdLst>
                <a:ahLst/>
                <a:rect l="textAreaLeft" t="textAreaTop" r="textAreaRight" b="textAreaBottom"/>
                <a:pathLst>
                  <a:path w="21600" h="47614">
                    <a:moveTo>
                      <a:pt x="300" y="0"/>
                    </a:moveTo>
                    <a:arcTo wR="300" hR="300" stAng="16200000" swAng="-5400000"/>
                    <a:lnTo>
                      <a:pt x="0" y="47314"/>
                    </a:lnTo>
                    <a:arcTo wR="300" hR="300" stAng="10800000" swAng="-5400000"/>
                    <a:lnTo>
                      <a:pt x="21300" y="47614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1416960" y="5176800"/>
              <a:ext cx="115920" cy="274680"/>
              <a:chOff x="1416960" y="5176800"/>
              <a:chExt cx="115920" cy="274680"/>
            </a:xfrm>
          </p:grpSpPr>
          <p:sp>
            <p:nvSpPr>
              <p:cNvPr id="68" name=""/>
              <p:cNvSpPr/>
              <p:nvPr/>
            </p:nvSpPr>
            <p:spPr>
              <a:xfrm>
                <a:off x="1417680" y="5176800"/>
                <a:ext cx="114120" cy="274680"/>
              </a:xfrm>
              <a:custGeom>
                <a:avLst/>
                <a:gdLst>
                  <a:gd name="textAreaLeft" fmla="*/ 360 w 114120"/>
                  <a:gd name="textAreaRight" fmla="*/ 113760 w 114120"/>
                  <a:gd name="textAreaTop" fmla="*/ 360 h 274680"/>
                  <a:gd name="textAreaBottom" fmla="*/ 274320 h 274680"/>
                </a:gdLst>
                <a:ahLst/>
                <a:rect l="textAreaLeft" t="textAreaTop" r="textAreaRight" b="textAreaBottom"/>
                <a:pathLst>
                  <a:path w="21600" h="51894">
                    <a:moveTo>
                      <a:pt x="300" y="0"/>
                    </a:moveTo>
                    <a:arcTo wR="300" hR="300" stAng="16200000" swAng="-5400000"/>
                    <a:lnTo>
                      <a:pt x="0" y="51594"/>
                    </a:lnTo>
                    <a:arcTo wR="300" hR="300" stAng="10800000" swAng="-5400000"/>
                    <a:lnTo>
                      <a:pt x="21300" y="51894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416960" y="5178600"/>
                <a:ext cx="115920" cy="255960"/>
              </a:xfrm>
              <a:custGeom>
                <a:avLst/>
                <a:gdLst>
                  <a:gd name="textAreaLeft" fmla="*/ 360 w 115920"/>
                  <a:gd name="textAreaRight" fmla="*/ 115560 w 115920"/>
                  <a:gd name="textAreaTop" fmla="*/ 360 h 255960"/>
                  <a:gd name="textAreaBottom" fmla="*/ 255600 h 255960"/>
                </a:gdLst>
                <a:ahLst/>
                <a:rect l="textAreaLeft" t="textAreaTop" r="textAreaRight" b="textAreaBottom"/>
                <a:pathLst>
                  <a:path w="21600" h="47614">
                    <a:moveTo>
                      <a:pt x="300" y="0"/>
                    </a:moveTo>
                    <a:arcTo wR="300" hR="300" stAng="16200000" swAng="-5400000"/>
                    <a:lnTo>
                      <a:pt x="0" y="47314"/>
                    </a:lnTo>
                    <a:arcTo wR="300" hR="300" stAng="10800000" swAng="-5400000"/>
                    <a:lnTo>
                      <a:pt x="21300" y="47614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1752480" y="1219320"/>
            <a:ext cx="2283120" cy="1384200"/>
            <a:chOff x="1752480" y="1219320"/>
            <a:chExt cx="2283120" cy="1384200"/>
          </a:xfrm>
        </p:grpSpPr>
        <p:sp>
          <p:nvSpPr>
            <p:cNvPr id="71" name=""/>
            <p:cNvSpPr/>
            <p:nvPr/>
          </p:nvSpPr>
          <p:spPr>
            <a:xfrm>
              <a:off x="1752480" y="1219320"/>
              <a:ext cx="2283120" cy="1384200"/>
            </a:xfrm>
            <a:prstGeom prst="roundRect">
              <a:avLst>
                <a:gd name="adj" fmla="val 111"/>
              </a:avLst>
            </a:prstGeom>
            <a:solidFill>
              <a:srgbClr val="e6e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52480" y="1235160"/>
              <a:ext cx="2283120" cy="13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Scan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-display u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-stimulus 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-no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-scan para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7405560" y="5730840"/>
            <a:ext cx="962280" cy="628560"/>
            <a:chOff x="7405560" y="5730840"/>
            <a:chExt cx="962280" cy="628560"/>
          </a:xfrm>
        </p:grpSpPr>
        <p:sp>
          <p:nvSpPr>
            <p:cNvPr id="74" name=""/>
            <p:cNvSpPr/>
            <p:nvPr/>
          </p:nvSpPr>
          <p:spPr>
            <a:xfrm>
              <a:off x="7405560" y="5730840"/>
              <a:ext cx="962280" cy="628560"/>
            </a:xfrm>
            <a:prstGeom prst="roundRect">
              <a:avLst>
                <a:gd name="adj" fmla="val 250"/>
              </a:avLst>
            </a:prstGeom>
            <a:solidFill>
              <a:srgbClr val="e6e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405560" y="5917320"/>
              <a:ext cx="96048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Stud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6748560" y="4145040"/>
            <a:ext cx="1825560" cy="1218960"/>
            <a:chOff x="6748560" y="4145040"/>
            <a:chExt cx="1825560" cy="1218960"/>
          </a:xfrm>
        </p:grpSpPr>
        <p:grpSp>
          <p:nvGrpSpPr>
            <p:cNvPr id="77" name=""/>
            <p:cNvGrpSpPr/>
            <p:nvPr/>
          </p:nvGrpSpPr>
          <p:grpSpPr>
            <a:xfrm>
              <a:off x="6748560" y="4405320"/>
              <a:ext cx="1825560" cy="682560"/>
              <a:chOff x="6748560" y="4405320"/>
              <a:chExt cx="1825560" cy="682560"/>
            </a:xfrm>
          </p:grpSpPr>
          <p:sp>
            <p:nvSpPr>
              <p:cNvPr id="78" name=""/>
              <p:cNvSpPr/>
              <p:nvPr/>
            </p:nvSpPr>
            <p:spPr>
              <a:xfrm>
                <a:off x="6748560" y="4405320"/>
                <a:ext cx="1825560" cy="682560"/>
              </a:xfrm>
              <a:custGeom>
                <a:avLst/>
                <a:gdLst/>
                <a:ahLst/>
                <a:rect l="l" t="t" r="r" b="b"/>
                <a:pathLst>
                  <a:path w="5072" h="1894">
                    <a:moveTo>
                      <a:pt x="2431" y="51"/>
                    </a:moveTo>
                    <a:lnTo>
                      <a:pt x="0" y="958"/>
                    </a:lnTo>
                    <a:lnTo>
                      <a:pt x="2499" y="1893"/>
                    </a:lnTo>
                    <a:lnTo>
                      <a:pt x="5071" y="934"/>
                    </a:lnTo>
                    <a:lnTo>
                      <a:pt x="2571" y="0"/>
                    </a:lnTo>
                    <a:lnTo>
                      <a:pt x="2431" y="51"/>
                    </a:lnTo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748560" y="4645800"/>
                <a:ext cx="1825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lead experimen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774920" y="4145040"/>
              <a:ext cx="115920" cy="274680"/>
              <a:chOff x="7774920" y="4145040"/>
              <a:chExt cx="115920" cy="274680"/>
            </a:xfrm>
          </p:grpSpPr>
          <p:sp>
            <p:nvSpPr>
              <p:cNvPr id="81" name=""/>
              <p:cNvSpPr/>
              <p:nvPr/>
            </p:nvSpPr>
            <p:spPr>
              <a:xfrm>
                <a:off x="7775640" y="4145040"/>
                <a:ext cx="114120" cy="274680"/>
              </a:xfrm>
              <a:custGeom>
                <a:avLst/>
                <a:gdLst>
                  <a:gd name="textAreaLeft" fmla="*/ 360 w 114120"/>
                  <a:gd name="textAreaRight" fmla="*/ 113760 w 114120"/>
                  <a:gd name="textAreaTop" fmla="*/ 360 h 274680"/>
                  <a:gd name="textAreaBottom" fmla="*/ 274320 h 274680"/>
                </a:gdLst>
                <a:ahLst/>
                <a:rect l="textAreaLeft" t="textAreaTop" r="textAreaRight" b="textAreaBottom"/>
                <a:pathLst>
                  <a:path w="21600" h="51894">
                    <a:moveTo>
                      <a:pt x="300" y="0"/>
                    </a:moveTo>
                    <a:arcTo wR="300" hR="300" stAng="16200000" swAng="-5400000"/>
                    <a:lnTo>
                      <a:pt x="0" y="51594"/>
                    </a:lnTo>
                    <a:arcTo wR="300" hR="300" stAng="10800000" swAng="-5400000"/>
                    <a:lnTo>
                      <a:pt x="21300" y="51894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774920" y="4145040"/>
                <a:ext cx="115920" cy="255960"/>
              </a:xfrm>
              <a:custGeom>
                <a:avLst/>
                <a:gdLst>
                  <a:gd name="textAreaLeft" fmla="*/ 360 w 115920"/>
                  <a:gd name="textAreaRight" fmla="*/ 115560 w 115920"/>
                  <a:gd name="textAreaTop" fmla="*/ 360 h 255960"/>
                  <a:gd name="textAreaBottom" fmla="*/ 255600 h 255960"/>
                </a:gdLst>
                <a:ahLst/>
                <a:rect l="textAreaLeft" t="textAreaTop" r="textAreaRight" b="textAreaBottom"/>
                <a:pathLst>
                  <a:path w="21600" h="47614">
                    <a:moveTo>
                      <a:pt x="300" y="0"/>
                    </a:moveTo>
                    <a:arcTo wR="300" hR="300" stAng="16200000" swAng="-5400000"/>
                    <a:lnTo>
                      <a:pt x="0" y="47314"/>
                    </a:lnTo>
                    <a:arcTo wR="300" hR="300" stAng="10800000" swAng="-5400000"/>
                    <a:lnTo>
                      <a:pt x="21300" y="47614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7774920" y="5089680"/>
              <a:ext cx="115920" cy="274320"/>
              <a:chOff x="7774920" y="5089680"/>
              <a:chExt cx="115920" cy="274320"/>
            </a:xfrm>
          </p:grpSpPr>
          <p:sp>
            <p:nvSpPr>
              <p:cNvPr id="84" name=""/>
              <p:cNvSpPr/>
              <p:nvPr/>
            </p:nvSpPr>
            <p:spPr>
              <a:xfrm>
                <a:off x="7775640" y="5089680"/>
                <a:ext cx="114120" cy="274320"/>
              </a:xfrm>
              <a:custGeom>
                <a:avLst/>
                <a:gdLst>
                  <a:gd name="textAreaLeft" fmla="*/ 360 w 114120"/>
                  <a:gd name="textAreaRight" fmla="*/ 113760 w 114120"/>
                  <a:gd name="textAreaTop" fmla="*/ 360 h 274320"/>
                  <a:gd name="textAreaBottom" fmla="*/ 273960 h 274320"/>
                </a:gdLst>
                <a:ahLst/>
                <a:rect l="textAreaLeft" t="textAreaTop" r="textAreaRight" b="textAreaBottom"/>
                <a:pathLst>
                  <a:path w="21600" h="51826">
                    <a:moveTo>
                      <a:pt x="300" y="0"/>
                    </a:moveTo>
                    <a:arcTo wR="300" hR="300" stAng="16200000" swAng="-5400000"/>
                    <a:lnTo>
                      <a:pt x="0" y="51526"/>
                    </a:lnTo>
                    <a:arcTo wR="300" hR="300" stAng="10800000" swAng="-5400000"/>
                    <a:lnTo>
                      <a:pt x="21300" y="51826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774920" y="5089680"/>
                <a:ext cx="115920" cy="255960"/>
              </a:xfrm>
              <a:custGeom>
                <a:avLst/>
                <a:gdLst>
                  <a:gd name="textAreaLeft" fmla="*/ 360 w 115920"/>
                  <a:gd name="textAreaRight" fmla="*/ 115560 w 115920"/>
                  <a:gd name="textAreaTop" fmla="*/ 360 h 255960"/>
                  <a:gd name="textAreaBottom" fmla="*/ 255600 h 255960"/>
                </a:gdLst>
                <a:ahLst/>
                <a:rect l="textAreaLeft" t="textAreaTop" r="textAreaRight" b="textAreaBottom"/>
                <a:pathLst>
                  <a:path w="21600" h="47614">
                    <a:moveTo>
                      <a:pt x="300" y="0"/>
                    </a:moveTo>
                    <a:arcTo wR="300" hR="300" stAng="16200000" swAng="-5400000"/>
                    <a:lnTo>
                      <a:pt x="0" y="47314"/>
                    </a:lnTo>
                    <a:arcTo wR="300" hR="300" stAng="10800000" swAng="-5400000"/>
                    <a:lnTo>
                      <a:pt x="21300" y="47614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" name=""/>
          <p:cNvGrpSpPr/>
          <p:nvPr/>
        </p:nvGrpSpPr>
        <p:grpSpPr>
          <a:xfrm>
            <a:off x="685800" y="2209680"/>
            <a:ext cx="913680" cy="959040"/>
            <a:chOff x="685800" y="2209680"/>
            <a:chExt cx="913680" cy="959040"/>
          </a:xfrm>
        </p:grpSpPr>
        <p:grpSp>
          <p:nvGrpSpPr>
            <p:cNvPr id="87" name=""/>
            <p:cNvGrpSpPr/>
            <p:nvPr/>
          </p:nvGrpSpPr>
          <p:grpSpPr>
            <a:xfrm>
              <a:off x="685800" y="2241720"/>
              <a:ext cx="909720" cy="617400"/>
              <a:chOff x="685800" y="2241720"/>
              <a:chExt cx="909720" cy="617400"/>
            </a:xfrm>
          </p:grpSpPr>
          <p:sp>
            <p:nvSpPr>
              <p:cNvPr id="88" name=""/>
              <p:cNvSpPr/>
              <p:nvPr/>
            </p:nvSpPr>
            <p:spPr>
              <a:xfrm>
                <a:off x="685800" y="2241720"/>
                <a:ext cx="909720" cy="617400"/>
              </a:xfrm>
              <a:custGeom>
                <a:avLst/>
                <a:gdLst/>
                <a:ahLst/>
                <a:rect l="l" t="t" r="r" b="b"/>
                <a:pathLst>
                  <a:path w="2527" h="1717">
                    <a:moveTo>
                      <a:pt x="1211" y="46"/>
                    </a:moveTo>
                    <a:lnTo>
                      <a:pt x="0" y="867"/>
                    </a:lnTo>
                    <a:lnTo>
                      <a:pt x="1246" y="1716"/>
                    </a:lnTo>
                    <a:lnTo>
                      <a:pt x="2526" y="847"/>
                    </a:lnTo>
                    <a:lnTo>
                      <a:pt x="1280" y="0"/>
                    </a:lnTo>
                    <a:lnTo>
                      <a:pt x="1211" y="46"/>
                    </a:lnTo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85800" y="2450160"/>
                <a:ext cx="909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generat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1483560" y="2209680"/>
              <a:ext cx="115920" cy="274680"/>
              <a:chOff x="1483560" y="2209680"/>
              <a:chExt cx="115920" cy="274680"/>
            </a:xfrm>
          </p:grpSpPr>
          <p:sp>
            <p:nvSpPr>
              <p:cNvPr id="91" name=""/>
              <p:cNvSpPr/>
              <p:nvPr/>
            </p:nvSpPr>
            <p:spPr>
              <a:xfrm>
                <a:off x="1484280" y="2209680"/>
                <a:ext cx="114480" cy="274680"/>
              </a:xfrm>
              <a:custGeom>
                <a:avLst/>
                <a:gdLst>
                  <a:gd name="textAreaLeft" fmla="*/ 360 w 114480"/>
                  <a:gd name="textAreaRight" fmla="*/ 114120 w 114480"/>
                  <a:gd name="textAreaTop" fmla="*/ 360 h 274680"/>
                  <a:gd name="textAreaBottom" fmla="*/ 274320 h 274680"/>
                </a:gdLst>
                <a:ahLst/>
                <a:rect l="textAreaLeft" t="textAreaTop" r="textAreaRight" b="textAreaBottom"/>
                <a:pathLst>
                  <a:path w="21600" h="51732">
                    <a:moveTo>
                      <a:pt x="300" y="0"/>
                    </a:moveTo>
                    <a:arcTo wR="300" hR="300" stAng="16200000" swAng="-5400000"/>
                    <a:lnTo>
                      <a:pt x="0" y="51432"/>
                    </a:lnTo>
                    <a:arcTo wR="300" hR="300" stAng="10800000" swAng="-5400000"/>
                    <a:lnTo>
                      <a:pt x="21300" y="51732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483560" y="2209680"/>
                <a:ext cx="115920" cy="255960"/>
              </a:xfrm>
              <a:custGeom>
                <a:avLst/>
                <a:gdLst>
                  <a:gd name="textAreaLeft" fmla="*/ 360 w 115920"/>
                  <a:gd name="textAreaRight" fmla="*/ 115560 w 115920"/>
                  <a:gd name="textAreaTop" fmla="*/ 360 h 255960"/>
                  <a:gd name="textAreaBottom" fmla="*/ 255600 h 255960"/>
                </a:gdLst>
                <a:ahLst/>
                <a:rect l="textAreaLeft" t="textAreaTop" r="textAreaRight" b="textAreaBottom"/>
                <a:pathLst>
                  <a:path w="21600" h="47614">
                    <a:moveTo>
                      <a:pt x="300" y="0"/>
                    </a:moveTo>
                    <a:arcTo wR="300" hR="300" stAng="16200000" swAng="-5400000"/>
                    <a:lnTo>
                      <a:pt x="0" y="47314"/>
                    </a:lnTo>
                    <a:arcTo wR="300" hR="300" stAng="10800000" swAng="-5400000"/>
                    <a:lnTo>
                      <a:pt x="21300" y="47614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991440" y="2894040"/>
              <a:ext cx="115920" cy="274680"/>
              <a:chOff x="991440" y="2894040"/>
              <a:chExt cx="115920" cy="274680"/>
            </a:xfrm>
          </p:grpSpPr>
          <p:sp>
            <p:nvSpPr>
              <p:cNvPr id="94" name=""/>
              <p:cNvSpPr/>
              <p:nvPr/>
            </p:nvSpPr>
            <p:spPr>
              <a:xfrm>
                <a:off x="992160" y="2894040"/>
                <a:ext cx="114480" cy="274680"/>
              </a:xfrm>
              <a:custGeom>
                <a:avLst/>
                <a:gdLst>
                  <a:gd name="textAreaLeft" fmla="*/ 360 w 114480"/>
                  <a:gd name="textAreaRight" fmla="*/ 114120 w 114480"/>
                  <a:gd name="textAreaTop" fmla="*/ 360 h 274680"/>
                  <a:gd name="textAreaBottom" fmla="*/ 274320 h 274680"/>
                </a:gdLst>
                <a:ahLst/>
                <a:rect l="textAreaLeft" t="textAreaTop" r="textAreaRight" b="textAreaBottom"/>
                <a:pathLst>
                  <a:path w="21600" h="51732">
                    <a:moveTo>
                      <a:pt x="300" y="0"/>
                    </a:moveTo>
                    <a:arcTo wR="300" hR="300" stAng="16200000" swAng="-5400000"/>
                    <a:lnTo>
                      <a:pt x="0" y="51432"/>
                    </a:lnTo>
                    <a:arcTo wR="300" hR="300" stAng="10800000" swAng="-5400000"/>
                    <a:lnTo>
                      <a:pt x="21300" y="51732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991440" y="2894040"/>
                <a:ext cx="115920" cy="255960"/>
              </a:xfrm>
              <a:custGeom>
                <a:avLst/>
                <a:gdLst>
                  <a:gd name="textAreaLeft" fmla="*/ 360 w 115920"/>
                  <a:gd name="textAreaRight" fmla="*/ 115560 w 115920"/>
                  <a:gd name="textAreaTop" fmla="*/ 360 h 255960"/>
                  <a:gd name="textAreaBottom" fmla="*/ 255600 h 255960"/>
                </a:gdLst>
                <a:ahLst/>
                <a:rect l="textAreaLeft" t="textAreaTop" r="textAreaRight" b="textAreaBottom"/>
                <a:pathLst>
                  <a:path w="21600" h="47614">
                    <a:moveTo>
                      <a:pt x="300" y="0"/>
                    </a:moveTo>
                    <a:arcTo wR="300" hR="300" stAng="16200000" swAng="-5400000"/>
                    <a:lnTo>
                      <a:pt x="0" y="47314"/>
                    </a:lnTo>
                    <a:arcTo wR="300" hR="300" stAng="10800000" swAng="-5400000"/>
                    <a:lnTo>
                      <a:pt x="21300" y="47614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" name=""/>
          <p:cNvGrpSpPr/>
          <p:nvPr/>
        </p:nvGrpSpPr>
        <p:grpSpPr>
          <a:xfrm>
            <a:off x="6019200" y="5562720"/>
            <a:ext cx="1028520" cy="485640"/>
            <a:chOff x="6019200" y="5562720"/>
            <a:chExt cx="1028520" cy="485640"/>
          </a:xfrm>
        </p:grpSpPr>
        <p:grpSp>
          <p:nvGrpSpPr>
            <p:cNvPr id="97" name=""/>
            <p:cNvGrpSpPr/>
            <p:nvPr/>
          </p:nvGrpSpPr>
          <p:grpSpPr>
            <a:xfrm>
              <a:off x="6141960" y="5594400"/>
              <a:ext cx="787320" cy="453960"/>
              <a:chOff x="6141960" y="5594400"/>
              <a:chExt cx="787320" cy="453960"/>
            </a:xfrm>
          </p:grpSpPr>
          <p:sp>
            <p:nvSpPr>
              <p:cNvPr id="98" name=""/>
              <p:cNvSpPr/>
              <p:nvPr/>
            </p:nvSpPr>
            <p:spPr>
              <a:xfrm>
                <a:off x="6141960" y="5594400"/>
                <a:ext cx="787320" cy="453960"/>
              </a:xfrm>
              <a:custGeom>
                <a:avLst/>
                <a:gdLst/>
                <a:ahLst/>
                <a:rect l="l" t="t" r="r" b="b"/>
                <a:pathLst>
                  <a:path w="2188" h="1262">
                    <a:moveTo>
                      <a:pt x="1048" y="34"/>
                    </a:moveTo>
                    <a:lnTo>
                      <a:pt x="0" y="637"/>
                    </a:lnTo>
                    <a:lnTo>
                      <a:pt x="1079" y="1261"/>
                    </a:lnTo>
                    <a:lnTo>
                      <a:pt x="2187" y="621"/>
                    </a:lnTo>
                    <a:lnTo>
                      <a:pt x="1108" y="0"/>
                    </a:lnTo>
                    <a:lnTo>
                      <a:pt x="1048" y="34"/>
                    </a:lnTo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141960" y="5722200"/>
                <a:ext cx="787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931800" y="5562720"/>
              <a:ext cx="115920" cy="274680"/>
              <a:chOff x="6931800" y="5562720"/>
              <a:chExt cx="115920" cy="274680"/>
            </a:xfrm>
          </p:grpSpPr>
          <p:sp>
            <p:nvSpPr>
              <p:cNvPr id="101" name=""/>
              <p:cNvSpPr/>
              <p:nvPr/>
            </p:nvSpPr>
            <p:spPr>
              <a:xfrm>
                <a:off x="6932520" y="5562720"/>
                <a:ext cx="114480" cy="274680"/>
              </a:xfrm>
              <a:custGeom>
                <a:avLst/>
                <a:gdLst>
                  <a:gd name="textAreaLeft" fmla="*/ 360 w 114480"/>
                  <a:gd name="textAreaRight" fmla="*/ 114120 w 114480"/>
                  <a:gd name="textAreaTop" fmla="*/ 360 h 274680"/>
                  <a:gd name="textAreaBottom" fmla="*/ 274320 h 274680"/>
                </a:gdLst>
                <a:ahLst/>
                <a:rect l="textAreaLeft" t="textAreaTop" r="textAreaRight" b="textAreaBottom"/>
                <a:pathLst>
                  <a:path w="21600" h="51732">
                    <a:moveTo>
                      <a:pt x="300" y="0"/>
                    </a:moveTo>
                    <a:arcTo wR="300" hR="300" stAng="16200000" swAng="-5400000"/>
                    <a:lnTo>
                      <a:pt x="0" y="51432"/>
                    </a:lnTo>
                    <a:arcTo wR="300" hR="300" stAng="10800000" swAng="-5400000"/>
                    <a:lnTo>
                      <a:pt x="21300" y="51732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931800" y="5562720"/>
                <a:ext cx="115920" cy="255960"/>
              </a:xfrm>
              <a:custGeom>
                <a:avLst/>
                <a:gdLst>
                  <a:gd name="textAreaLeft" fmla="*/ 360 w 115920"/>
                  <a:gd name="textAreaRight" fmla="*/ 115560 w 115920"/>
                  <a:gd name="textAreaTop" fmla="*/ 360 h 255960"/>
                  <a:gd name="textAreaBottom" fmla="*/ 255600 h 255960"/>
                </a:gdLst>
                <a:ahLst/>
                <a:rect l="textAreaLeft" t="textAreaTop" r="textAreaRight" b="textAreaBottom"/>
                <a:pathLst>
                  <a:path w="21600" h="47614">
                    <a:moveTo>
                      <a:pt x="300" y="0"/>
                    </a:moveTo>
                    <a:arcTo wR="300" hR="300" stAng="16200000" swAng="-5400000"/>
                    <a:lnTo>
                      <a:pt x="0" y="47314"/>
                    </a:lnTo>
                    <a:arcTo wR="300" hR="300" stAng="10800000" swAng="-5400000"/>
                    <a:lnTo>
                      <a:pt x="21300" y="47614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dc23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19200" y="5562720"/>
              <a:ext cx="115920" cy="274680"/>
              <a:chOff x="6019200" y="5562720"/>
              <a:chExt cx="115920" cy="274680"/>
            </a:xfrm>
          </p:grpSpPr>
          <p:sp>
            <p:nvSpPr>
              <p:cNvPr id="104" name=""/>
              <p:cNvSpPr/>
              <p:nvPr/>
            </p:nvSpPr>
            <p:spPr>
              <a:xfrm>
                <a:off x="6019920" y="5562720"/>
                <a:ext cx="114120" cy="274680"/>
              </a:xfrm>
              <a:custGeom>
                <a:avLst/>
                <a:gdLst>
                  <a:gd name="textAreaLeft" fmla="*/ 360 w 114120"/>
                  <a:gd name="textAreaRight" fmla="*/ 113760 w 114120"/>
                  <a:gd name="textAreaTop" fmla="*/ 360 h 274680"/>
                  <a:gd name="textAreaBottom" fmla="*/ 274320 h 274680"/>
                </a:gdLst>
                <a:ahLst/>
                <a:rect l="textAreaLeft" t="textAreaTop" r="textAreaRight" b="textAreaBottom"/>
                <a:pathLst>
                  <a:path w="21600" h="51894">
                    <a:moveTo>
                      <a:pt x="300" y="0"/>
                    </a:moveTo>
                    <a:arcTo wR="300" hR="300" stAng="16200000" swAng="-5400000"/>
                    <a:lnTo>
                      <a:pt x="0" y="51594"/>
                    </a:lnTo>
                    <a:arcTo wR="300" hR="300" stAng="10800000" swAng="-5400000"/>
                    <a:lnTo>
                      <a:pt x="21300" y="51894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19200" y="5562720"/>
                <a:ext cx="115920" cy="255960"/>
              </a:xfrm>
              <a:custGeom>
                <a:avLst/>
                <a:gdLst>
                  <a:gd name="textAreaLeft" fmla="*/ 360 w 115920"/>
                  <a:gd name="textAreaRight" fmla="*/ 115560 w 115920"/>
                  <a:gd name="textAreaTop" fmla="*/ 360 h 255960"/>
                  <a:gd name="textAreaBottom" fmla="*/ 255600 h 255960"/>
                </a:gdLst>
                <a:ahLst/>
                <a:rect l="textAreaLeft" t="textAreaTop" r="textAreaRight" b="textAreaBottom"/>
                <a:pathLst>
                  <a:path w="21600" h="47614">
                    <a:moveTo>
                      <a:pt x="300" y="0"/>
                    </a:moveTo>
                    <a:arcTo wR="300" hR="300" stAng="16200000" swAng="-5400000"/>
                    <a:lnTo>
                      <a:pt x="0" y="47314"/>
                    </a:lnTo>
                    <a:arcTo wR="300" hR="300" stAng="10800000" swAng="-5400000"/>
                    <a:lnTo>
                      <a:pt x="21300" y="47614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106" name=""/>
          <p:cNvCxnSpPr>
            <a:stCxn id="55" idx="2"/>
            <a:endCxn id="78" idx="0"/>
          </p:cNvCxnSpPr>
          <p:nvPr/>
        </p:nvCxnSpPr>
        <p:spPr>
          <a:xfrm flipV="1" rot="10800000">
            <a:off x="7622280" y="1722240"/>
            <a:ext cx="888480" cy="2700720"/>
          </a:xfrm>
          <a:prstGeom prst="bentConnector3">
            <a:avLst>
              <a:gd name="adj1" fmla="val 499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98" idx="0"/>
            <a:endCxn id="108" idx="3"/>
          </p:cNvCxnSpPr>
          <p:nvPr/>
        </p:nvCxnSpPr>
        <p:spPr>
          <a:xfrm flipV="1" rot="10800000">
            <a:off x="5636520" y="5822640"/>
            <a:ext cx="505440" cy="118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98" idx="1"/>
            <a:endCxn id="74" idx="1"/>
          </p:cNvCxnSpPr>
          <p:nvPr/>
        </p:nvCxnSpPr>
        <p:spPr>
          <a:xfrm>
            <a:off x="6927480" y="5817960"/>
            <a:ext cx="478440" cy="229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" name=""/>
          <p:cNvCxnSpPr>
            <a:stCxn id="78" idx="1"/>
            <a:endCxn id="74" idx="0"/>
          </p:cNvCxnSpPr>
          <p:nvPr/>
        </p:nvCxnSpPr>
        <p:spPr>
          <a:xfrm>
            <a:off x="7648560" y="5086080"/>
            <a:ext cx="240480" cy="646920"/>
          </a:xfrm>
          <a:prstGeom prst="bentConnector3">
            <a:avLst>
              <a:gd name="adj1" fmla="val 4992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12" idx="0"/>
            <a:endCxn id="71" idx="3"/>
          </p:cNvCxnSpPr>
          <p:nvPr/>
        </p:nvCxnSpPr>
        <p:spPr>
          <a:xfrm rot="10800000">
            <a:off x="4034880" y="1910520"/>
            <a:ext cx="424440" cy="23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114" idx="0"/>
            <a:endCxn id="71" idx="3"/>
          </p:cNvCxnSpPr>
          <p:nvPr/>
        </p:nvCxnSpPr>
        <p:spPr>
          <a:xfrm rot="10800000">
            <a:off x="4034880" y="1910520"/>
            <a:ext cx="405360" cy="697680"/>
          </a:xfrm>
          <a:prstGeom prst="bentConnector3">
            <a:avLst>
              <a:gd name="adj1" fmla="val 4995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" name=""/>
          <p:cNvCxnSpPr>
            <a:stCxn id="58" idx="0"/>
            <a:endCxn id="62" idx="0"/>
          </p:cNvCxnSpPr>
          <p:nvPr/>
        </p:nvCxnSpPr>
        <p:spPr>
          <a:xfrm flipV="1">
            <a:off x="968400" y="5152680"/>
            <a:ext cx="380160" cy="3340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62" idx="1"/>
            <a:endCxn id="52" idx="2"/>
          </p:cNvCxnSpPr>
          <p:nvPr/>
        </p:nvCxnSpPr>
        <p:spPr>
          <a:xfrm rot="10800000">
            <a:off x="886680" y="4102920"/>
            <a:ext cx="459360" cy="10501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52" idx="0"/>
            <a:endCxn id="88" idx="0"/>
          </p:cNvCxnSpPr>
          <p:nvPr/>
        </p:nvCxnSpPr>
        <p:spPr>
          <a:xfrm flipV="1">
            <a:off x="887400" y="2858760"/>
            <a:ext cx="246960" cy="791280"/>
          </a:xfrm>
          <a:prstGeom prst="bentConnector3">
            <a:avLst>
              <a:gd name="adj1" fmla="val 4992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88" idx="1"/>
            <a:endCxn id="71" idx="1"/>
          </p:cNvCxnSpPr>
          <p:nvPr/>
        </p:nvCxnSpPr>
        <p:spPr>
          <a:xfrm flipV="1">
            <a:off x="1593360" y="1910880"/>
            <a:ext cx="159480" cy="635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112" idx="1"/>
            <a:endCxn id="55" idx="1"/>
          </p:cNvCxnSpPr>
          <p:nvPr/>
        </p:nvCxnSpPr>
        <p:spPr>
          <a:xfrm flipV="1">
            <a:off x="5826240" y="1456560"/>
            <a:ext cx="2171880" cy="469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14" idx="1"/>
          </p:cNvCxnSpPr>
          <p:nvPr/>
        </p:nvCxnSpPr>
        <p:spPr>
          <a:xfrm>
            <a:off x="5611680" y="2601720"/>
            <a:ext cx="581400" cy="14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1" name=""/>
          <p:cNvGrpSpPr/>
          <p:nvPr/>
        </p:nvGrpSpPr>
        <p:grpSpPr>
          <a:xfrm>
            <a:off x="4331520" y="2286000"/>
            <a:ext cx="1390680" cy="536400"/>
            <a:chOff x="4331520" y="2286000"/>
            <a:chExt cx="1390680" cy="536400"/>
          </a:xfrm>
        </p:grpSpPr>
        <p:grpSp>
          <p:nvGrpSpPr>
            <p:cNvPr id="122" name=""/>
            <p:cNvGrpSpPr/>
            <p:nvPr/>
          </p:nvGrpSpPr>
          <p:grpSpPr>
            <a:xfrm>
              <a:off x="4440240" y="2389320"/>
              <a:ext cx="1173240" cy="433080"/>
              <a:chOff x="4440240" y="2389320"/>
              <a:chExt cx="1173240" cy="433080"/>
            </a:xfrm>
          </p:grpSpPr>
          <p:sp>
            <p:nvSpPr>
              <p:cNvPr id="114" name=""/>
              <p:cNvSpPr/>
              <p:nvPr/>
            </p:nvSpPr>
            <p:spPr>
              <a:xfrm>
                <a:off x="4440240" y="2389320"/>
                <a:ext cx="1173240" cy="433080"/>
              </a:xfrm>
              <a:custGeom>
                <a:avLst/>
                <a:gdLst/>
                <a:ahLst/>
                <a:rect l="l" t="t" r="r" b="b"/>
                <a:pathLst>
                  <a:path w="3259" h="1203">
                    <a:moveTo>
                      <a:pt x="1563" y="33"/>
                    </a:moveTo>
                    <a:lnTo>
                      <a:pt x="0" y="608"/>
                    </a:lnTo>
                    <a:lnTo>
                      <a:pt x="1607" y="1202"/>
                    </a:lnTo>
                    <a:lnTo>
                      <a:pt x="3258" y="593"/>
                    </a:lnTo>
                    <a:lnTo>
                      <a:pt x="1651" y="0"/>
                    </a:lnTo>
                    <a:lnTo>
                      <a:pt x="1563" y="33"/>
                    </a:lnTo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440240" y="2506680"/>
                <a:ext cx="1173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subjec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5606280" y="2286000"/>
              <a:ext cx="115920" cy="255960"/>
              <a:chOff x="5606280" y="2286000"/>
              <a:chExt cx="115920" cy="255960"/>
            </a:xfrm>
          </p:grpSpPr>
          <p:sp>
            <p:nvSpPr>
              <p:cNvPr id="125" name=""/>
              <p:cNvSpPr/>
              <p:nvPr/>
            </p:nvSpPr>
            <p:spPr>
              <a:xfrm>
                <a:off x="5614920" y="2286000"/>
                <a:ext cx="98640" cy="247680"/>
              </a:xfrm>
              <a:custGeom>
                <a:avLst/>
                <a:gdLst>
                  <a:gd name="textAreaLeft" fmla="*/ 360 w 98640"/>
                  <a:gd name="textAreaRight" fmla="*/ 98280 w 98640"/>
                  <a:gd name="textAreaTop" fmla="*/ 360 h 247680"/>
                  <a:gd name="textAreaBottom" fmla="*/ 247320 h 247680"/>
                </a:gdLst>
                <a:ahLst/>
                <a:rect l="textAreaLeft" t="textAreaTop" r="textAreaRight" b="textAreaBottom"/>
                <a:pathLst>
                  <a:path w="21600" h="54118">
                    <a:moveTo>
                      <a:pt x="348" y="0"/>
                    </a:moveTo>
                    <a:arcTo wR="348" hR="348" stAng="16200000" swAng="-5400000"/>
                    <a:lnTo>
                      <a:pt x="0" y="53770"/>
                    </a:lnTo>
                    <a:arcTo wR="348" hR="348" stAng="10800000" swAng="-5400000"/>
                    <a:lnTo>
                      <a:pt x="21252" y="54118"/>
                    </a:lnTo>
                    <a:arcTo wR="348" hR="348" stAng="5400000" swAng="-5400000"/>
                    <a:lnTo>
                      <a:pt x="21600" y="348"/>
                    </a:lnTo>
                    <a:arcTo wR="348" hR="348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606280" y="2286000"/>
                <a:ext cx="115920" cy="255960"/>
              </a:xfrm>
              <a:custGeom>
                <a:avLst/>
                <a:gdLst>
                  <a:gd name="textAreaLeft" fmla="*/ 360 w 115920"/>
                  <a:gd name="textAreaRight" fmla="*/ 115560 w 115920"/>
                  <a:gd name="textAreaTop" fmla="*/ 360 h 255960"/>
                  <a:gd name="textAreaBottom" fmla="*/ 255600 h 255960"/>
                </a:gdLst>
                <a:ahLst/>
                <a:rect l="textAreaLeft" t="textAreaTop" r="textAreaRight" b="textAreaBottom"/>
                <a:pathLst>
                  <a:path w="21600" h="47614">
                    <a:moveTo>
                      <a:pt x="348" y="0"/>
                    </a:moveTo>
                    <a:arcTo wR="348" hR="348" stAng="16200000" swAng="-5400000"/>
                    <a:lnTo>
                      <a:pt x="0" y="47266"/>
                    </a:lnTo>
                    <a:arcTo wR="348" hR="348" stAng="10800000" swAng="-5400000"/>
                    <a:lnTo>
                      <a:pt x="21252" y="47614"/>
                    </a:lnTo>
                    <a:arcTo wR="348" hR="348" stAng="5400000" swAng="-5400000"/>
                    <a:lnTo>
                      <a:pt x="21600" y="348"/>
                    </a:lnTo>
                    <a:arcTo wR="348" hR="348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331520" y="2286000"/>
              <a:ext cx="115920" cy="255960"/>
              <a:chOff x="4331520" y="2286000"/>
              <a:chExt cx="115920" cy="255960"/>
            </a:xfrm>
          </p:grpSpPr>
          <p:sp>
            <p:nvSpPr>
              <p:cNvPr id="128" name=""/>
              <p:cNvSpPr/>
              <p:nvPr/>
            </p:nvSpPr>
            <p:spPr>
              <a:xfrm>
                <a:off x="4340160" y="2286000"/>
                <a:ext cx="98640" cy="247680"/>
              </a:xfrm>
              <a:custGeom>
                <a:avLst/>
                <a:gdLst>
                  <a:gd name="textAreaLeft" fmla="*/ 360 w 98640"/>
                  <a:gd name="textAreaRight" fmla="*/ 98280 w 98640"/>
                  <a:gd name="textAreaTop" fmla="*/ 360 h 247680"/>
                  <a:gd name="textAreaBottom" fmla="*/ 247320 h 247680"/>
                </a:gdLst>
                <a:ahLst/>
                <a:rect l="textAreaLeft" t="textAreaTop" r="textAreaRight" b="textAreaBottom"/>
                <a:pathLst>
                  <a:path w="21600" h="54118">
                    <a:moveTo>
                      <a:pt x="348" y="0"/>
                    </a:moveTo>
                    <a:arcTo wR="348" hR="348" stAng="16200000" swAng="-5400000"/>
                    <a:lnTo>
                      <a:pt x="0" y="53770"/>
                    </a:lnTo>
                    <a:arcTo wR="348" hR="348" stAng="10800000" swAng="-5400000"/>
                    <a:lnTo>
                      <a:pt x="21252" y="54118"/>
                    </a:lnTo>
                    <a:arcTo wR="348" hR="348" stAng="5400000" swAng="-5400000"/>
                    <a:lnTo>
                      <a:pt x="21600" y="348"/>
                    </a:lnTo>
                    <a:arcTo wR="348" hR="348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31520" y="2286000"/>
                <a:ext cx="115920" cy="255960"/>
              </a:xfrm>
              <a:custGeom>
                <a:avLst/>
                <a:gdLst>
                  <a:gd name="textAreaLeft" fmla="*/ 360 w 115920"/>
                  <a:gd name="textAreaRight" fmla="*/ 115560 w 115920"/>
                  <a:gd name="textAreaTop" fmla="*/ 360 h 255960"/>
                  <a:gd name="textAreaBottom" fmla="*/ 255600 h 255960"/>
                </a:gdLst>
                <a:ahLst/>
                <a:rect l="textAreaLeft" t="textAreaTop" r="textAreaRight" b="textAreaBottom"/>
                <a:pathLst>
                  <a:path w="21600" h="47614">
                    <a:moveTo>
                      <a:pt x="348" y="0"/>
                    </a:moveTo>
                    <a:arcTo wR="348" hR="348" stAng="16200000" swAng="-5400000"/>
                    <a:lnTo>
                      <a:pt x="0" y="47266"/>
                    </a:lnTo>
                    <a:arcTo wR="348" hR="348" stAng="10800000" swAng="-5400000"/>
                    <a:lnTo>
                      <a:pt x="21252" y="47614"/>
                    </a:lnTo>
                    <a:arcTo wR="348" hR="348" stAng="5400000" swAng="-5400000"/>
                    <a:lnTo>
                      <a:pt x="21600" y="348"/>
                    </a:lnTo>
                    <a:arcTo wR="348" hR="348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342680" y="1600200"/>
            <a:ext cx="1602000" cy="623880"/>
            <a:chOff x="4342680" y="1600200"/>
            <a:chExt cx="1602000" cy="623880"/>
          </a:xfrm>
        </p:grpSpPr>
        <p:grpSp>
          <p:nvGrpSpPr>
            <p:cNvPr id="131" name=""/>
            <p:cNvGrpSpPr/>
            <p:nvPr/>
          </p:nvGrpSpPr>
          <p:grpSpPr>
            <a:xfrm>
              <a:off x="4459320" y="1636560"/>
              <a:ext cx="1366920" cy="587520"/>
              <a:chOff x="4459320" y="1636560"/>
              <a:chExt cx="1366920" cy="587520"/>
            </a:xfrm>
          </p:grpSpPr>
          <p:sp>
            <p:nvSpPr>
              <p:cNvPr id="112" name=""/>
              <p:cNvSpPr/>
              <p:nvPr/>
            </p:nvSpPr>
            <p:spPr>
              <a:xfrm>
                <a:off x="4459320" y="1636560"/>
                <a:ext cx="1366920" cy="587520"/>
              </a:xfrm>
              <a:custGeom>
                <a:avLst/>
                <a:gdLst/>
                <a:ahLst/>
                <a:rect l="l" t="t" r="r" b="b"/>
                <a:pathLst>
                  <a:path w="3798" h="1633">
                    <a:moveTo>
                      <a:pt x="1820" y="43"/>
                    </a:moveTo>
                    <a:lnTo>
                      <a:pt x="0" y="826"/>
                    </a:lnTo>
                    <a:lnTo>
                      <a:pt x="1873" y="1632"/>
                    </a:lnTo>
                    <a:lnTo>
                      <a:pt x="3797" y="804"/>
                    </a:lnTo>
                    <a:lnTo>
                      <a:pt x="1924" y="0"/>
                    </a:lnTo>
                    <a:lnTo>
                      <a:pt x="1820" y="43"/>
                    </a:lnTo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459320" y="1830960"/>
                <a:ext cx="1366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scan operat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5828760" y="1600200"/>
              <a:ext cx="115920" cy="258840"/>
              <a:chOff x="5828760" y="1600200"/>
              <a:chExt cx="115920" cy="258840"/>
            </a:xfrm>
          </p:grpSpPr>
          <p:sp>
            <p:nvSpPr>
              <p:cNvPr id="134" name=""/>
              <p:cNvSpPr/>
              <p:nvPr/>
            </p:nvSpPr>
            <p:spPr>
              <a:xfrm>
                <a:off x="5829480" y="1600200"/>
                <a:ext cx="114120" cy="258840"/>
              </a:xfrm>
              <a:custGeom>
                <a:avLst/>
                <a:gdLst>
                  <a:gd name="textAreaLeft" fmla="*/ 360 w 114120"/>
                  <a:gd name="textAreaRight" fmla="*/ 113760 w 114120"/>
                  <a:gd name="textAreaTop" fmla="*/ 360 h 258840"/>
                  <a:gd name="textAreaBottom" fmla="*/ 258480 h 258840"/>
                </a:gdLst>
                <a:ahLst/>
                <a:rect l="textAreaLeft" t="textAreaTop" r="textAreaRight" b="textAreaBottom"/>
                <a:pathLst>
                  <a:path w="21600" h="48906">
                    <a:moveTo>
                      <a:pt x="300" y="0"/>
                    </a:moveTo>
                    <a:arcTo wR="300" hR="300" stAng="16200000" swAng="-5400000"/>
                    <a:lnTo>
                      <a:pt x="0" y="48606"/>
                    </a:lnTo>
                    <a:arcTo wR="300" hR="300" stAng="10800000" swAng="-5400000"/>
                    <a:lnTo>
                      <a:pt x="21300" y="48906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828760" y="1600200"/>
                <a:ext cx="115920" cy="255960"/>
              </a:xfrm>
              <a:custGeom>
                <a:avLst/>
                <a:gdLst>
                  <a:gd name="textAreaLeft" fmla="*/ 360 w 115920"/>
                  <a:gd name="textAreaRight" fmla="*/ 115560 w 115920"/>
                  <a:gd name="textAreaTop" fmla="*/ 360 h 255960"/>
                  <a:gd name="textAreaBottom" fmla="*/ 255600 h 255960"/>
                </a:gdLst>
                <a:ahLst/>
                <a:rect l="textAreaLeft" t="textAreaTop" r="textAreaRight" b="textAreaBottom"/>
                <a:pathLst>
                  <a:path w="21600" h="47614">
                    <a:moveTo>
                      <a:pt x="300" y="0"/>
                    </a:moveTo>
                    <a:arcTo wR="300" hR="300" stAng="16200000" swAng="-5400000"/>
                    <a:lnTo>
                      <a:pt x="0" y="47314"/>
                    </a:lnTo>
                    <a:arcTo wR="300" hR="300" stAng="10800000" swAng="-5400000"/>
                    <a:lnTo>
                      <a:pt x="21300" y="47614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dc23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342680" y="1600200"/>
              <a:ext cx="115920" cy="258840"/>
              <a:chOff x="4342680" y="1600200"/>
              <a:chExt cx="115920" cy="258840"/>
            </a:xfrm>
          </p:grpSpPr>
          <p:sp>
            <p:nvSpPr>
              <p:cNvPr id="137" name=""/>
              <p:cNvSpPr/>
              <p:nvPr/>
            </p:nvSpPr>
            <p:spPr>
              <a:xfrm>
                <a:off x="4343400" y="1600200"/>
                <a:ext cx="114480" cy="258840"/>
              </a:xfrm>
              <a:custGeom>
                <a:avLst/>
                <a:gdLst>
                  <a:gd name="textAreaLeft" fmla="*/ 360 w 114480"/>
                  <a:gd name="textAreaRight" fmla="*/ 114120 w 114480"/>
                  <a:gd name="textAreaTop" fmla="*/ 360 h 258840"/>
                  <a:gd name="textAreaBottom" fmla="*/ 258480 h 258840"/>
                </a:gdLst>
                <a:ahLst/>
                <a:rect l="textAreaLeft" t="textAreaTop" r="textAreaRight" b="textAreaBottom"/>
                <a:pathLst>
                  <a:path w="21600" h="48752">
                    <a:moveTo>
                      <a:pt x="300" y="0"/>
                    </a:moveTo>
                    <a:arcTo wR="300" hR="300" stAng="16200000" swAng="-5400000"/>
                    <a:lnTo>
                      <a:pt x="0" y="48452"/>
                    </a:lnTo>
                    <a:arcTo wR="300" hR="300" stAng="10800000" swAng="-5400000"/>
                    <a:lnTo>
                      <a:pt x="21300" y="48752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342680" y="1600200"/>
                <a:ext cx="115920" cy="255960"/>
              </a:xfrm>
              <a:custGeom>
                <a:avLst/>
                <a:gdLst>
                  <a:gd name="textAreaLeft" fmla="*/ 360 w 115920"/>
                  <a:gd name="textAreaRight" fmla="*/ 115560 w 115920"/>
                  <a:gd name="textAreaTop" fmla="*/ 360 h 255960"/>
                  <a:gd name="textAreaBottom" fmla="*/ 255600 h 255960"/>
                </a:gdLst>
                <a:ahLst/>
                <a:rect l="textAreaLeft" t="textAreaTop" r="textAreaRight" b="textAreaBottom"/>
                <a:pathLst>
                  <a:path w="21600" h="47614">
                    <a:moveTo>
                      <a:pt x="300" y="0"/>
                    </a:moveTo>
                    <a:arcTo wR="300" hR="300" stAng="16200000" swAng="-5400000"/>
                    <a:lnTo>
                      <a:pt x="0" y="47314"/>
                    </a:lnTo>
                    <a:arcTo wR="300" hR="300" stAng="10800000" swAng="-5400000"/>
                    <a:lnTo>
                      <a:pt x="21300" y="47614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" name=""/>
          <p:cNvGrpSpPr/>
          <p:nvPr/>
        </p:nvGrpSpPr>
        <p:grpSpPr>
          <a:xfrm>
            <a:off x="4191120" y="5386320"/>
            <a:ext cx="1446120" cy="1109880"/>
            <a:chOff x="4191120" y="5386320"/>
            <a:chExt cx="1446120" cy="1109880"/>
          </a:xfrm>
        </p:grpSpPr>
        <p:sp>
          <p:nvSpPr>
            <p:cNvPr id="108" name=""/>
            <p:cNvSpPr/>
            <p:nvPr/>
          </p:nvSpPr>
          <p:spPr>
            <a:xfrm>
              <a:off x="4191120" y="5386320"/>
              <a:ext cx="1446120" cy="1109880"/>
            </a:xfrm>
            <a:prstGeom prst="roundRect">
              <a:avLst>
                <a:gd name="adj" fmla="val 139"/>
              </a:avLst>
            </a:prstGeom>
            <a:solidFill>
              <a:srgbClr val="e6e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91120" y="5402160"/>
              <a:ext cx="14461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Analyse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-no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-lo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-figures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083200" y="3936960"/>
            <a:ext cx="1139760" cy="959040"/>
            <a:chOff x="5083200" y="3936960"/>
            <a:chExt cx="1139760" cy="959040"/>
          </a:xfrm>
        </p:grpSpPr>
        <p:grpSp>
          <p:nvGrpSpPr>
            <p:cNvPr id="142" name=""/>
            <p:cNvGrpSpPr/>
            <p:nvPr/>
          </p:nvGrpSpPr>
          <p:grpSpPr>
            <a:xfrm>
              <a:off x="5083200" y="4165560"/>
              <a:ext cx="1139760" cy="453960"/>
              <a:chOff x="5083200" y="4165560"/>
              <a:chExt cx="1139760" cy="453960"/>
            </a:xfrm>
          </p:grpSpPr>
          <p:sp>
            <p:nvSpPr>
              <p:cNvPr id="143" name=""/>
              <p:cNvSpPr/>
              <p:nvPr/>
            </p:nvSpPr>
            <p:spPr>
              <a:xfrm>
                <a:off x="5083200" y="4165560"/>
                <a:ext cx="1139760" cy="453960"/>
              </a:xfrm>
              <a:custGeom>
                <a:avLst/>
                <a:gdLst/>
                <a:ahLst/>
                <a:rect l="l" t="t" r="r" b="b"/>
                <a:pathLst>
                  <a:path w="3166" h="1260">
                    <a:moveTo>
                      <a:pt x="1519" y="34"/>
                    </a:moveTo>
                    <a:lnTo>
                      <a:pt x="0" y="636"/>
                    </a:lnTo>
                    <a:lnTo>
                      <a:pt x="1562" y="1259"/>
                    </a:lnTo>
                    <a:lnTo>
                      <a:pt x="3165" y="621"/>
                    </a:lnTo>
                    <a:lnTo>
                      <a:pt x="1603" y="0"/>
                    </a:lnTo>
                    <a:lnTo>
                      <a:pt x="1519" y="34"/>
                    </a:lnTo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083200" y="4290840"/>
                <a:ext cx="113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analyz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5774760" y="3936960"/>
              <a:ext cx="115920" cy="274680"/>
              <a:chOff x="5774760" y="3936960"/>
              <a:chExt cx="115920" cy="274680"/>
            </a:xfrm>
          </p:grpSpPr>
          <p:sp>
            <p:nvSpPr>
              <p:cNvPr id="146" name=""/>
              <p:cNvSpPr/>
              <p:nvPr/>
            </p:nvSpPr>
            <p:spPr>
              <a:xfrm>
                <a:off x="5775480" y="3936960"/>
                <a:ext cx="114120" cy="274680"/>
              </a:xfrm>
              <a:custGeom>
                <a:avLst/>
                <a:gdLst>
                  <a:gd name="textAreaLeft" fmla="*/ 360 w 114120"/>
                  <a:gd name="textAreaRight" fmla="*/ 113760 w 114120"/>
                  <a:gd name="textAreaTop" fmla="*/ 360 h 274680"/>
                  <a:gd name="textAreaBottom" fmla="*/ 274320 h 274680"/>
                </a:gdLst>
                <a:ahLst/>
                <a:rect l="textAreaLeft" t="textAreaTop" r="textAreaRight" b="textAreaBottom"/>
                <a:pathLst>
                  <a:path w="21600" h="51894">
                    <a:moveTo>
                      <a:pt x="300" y="0"/>
                    </a:moveTo>
                    <a:arcTo wR="300" hR="300" stAng="16200000" swAng="-5400000"/>
                    <a:lnTo>
                      <a:pt x="0" y="51594"/>
                    </a:lnTo>
                    <a:arcTo wR="300" hR="300" stAng="10800000" swAng="-5400000"/>
                    <a:lnTo>
                      <a:pt x="21300" y="51894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74760" y="3936960"/>
                <a:ext cx="115920" cy="255960"/>
              </a:xfrm>
              <a:custGeom>
                <a:avLst/>
                <a:gdLst>
                  <a:gd name="textAreaLeft" fmla="*/ 360 w 115920"/>
                  <a:gd name="textAreaRight" fmla="*/ 115560 w 115920"/>
                  <a:gd name="textAreaTop" fmla="*/ 360 h 255960"/>
                  <a:gd name="textAreaBottom" fmla="*/ 255600 h 255960"/>
                </a:gdLst>
                <a:ahLst/>
                <a:rect l="textAreaLeft" t="textAreaTop" r="textAreaRight" b="textAreaBottom"/>
                <a:pathLst>
                  <a:path w="21600" h="47614">
                    <a:moveTo>
                      <a:pt x="300" y="0"/>
                    </a:moveTo>
                    <a:arcTo wR="300" hR="300" stAng="16200000" swAng="-5400000"/>
                    <a:lnTo>
                      <a:pt x="0" y="47314"/>
                    </a:lnTo>
                    <a:arcTo wR="300" hR="300" stAng="10800000" swAng="-5400000"/>
                    <a:lnTo>
                      <a:pt x="21300" y="47614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5768280" y="4621320"/>
              <a:ext cx="115920" cy="274680"/>
              <a:chOff x="5768280" y="4621320"/>
              <a:chExt cx="115920" cy="274680"/>
            </a:xfrm>
          </p:grpSpPr>
          <p:sp>
            <p:nvSpPr>
              <p:cNvPr id="149" name=""/>
              <p:cNvSpPr/>
              <p:nvPr/>
            </p:nvSpPr>
            <p:spPr>
              <a:xfrm>
                <a:off x="5769000" y="4621320"/>
                <a:ext cx="114120" cy="274680"/>
              </a:xfrm>
              <a:custGeom>
                <a:avLst/>
                <a:gdLst>
                  <a:gd name="textAreaLeft" fmla="*/ 360 w 114120"/>
                  <a:gd name="textAreaRight" fmla="*/ 113760 w 114120"/>
                  <a:gd name="textAreaTop" fmla="*/ 360 h 274680"/>
                  <a:gd name="textAreaBottom" fmla="*/ 274320 h 274680"/>
                </a:gdLst>
                <a:ahLst/>
                <a:rect l="textAreaLeft" t="textAreaTop" r="textAreaRight" b="textAreaBottom"/>
                <a:pathLst>
                  <a:path w="21600" h="51894">
                    <a:moveTo>
                      <a:pt x="300" y="0"/>
                    </a:moveTo>
                    <a:arcTo wR="300" hR="300" stAng="16200000" swAng="-5400000"/>
                    <a:lnTo>
                      <a:pt x="0" y="51594"/>
                    </a:lnTo>
                    <a:arcTo wR="300" hR="300" stAng="10800000" swAng="-5400000"/>
                    <a:lnTo>
                      <a:pt x="21300" y="51894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68280" y="4622760"/>
                <a:ext cx="115920" cy="255960"/>
              </a:xfrm>
              <a:custGeom>
                <a:avLst/>
                <a:gdLst>
                  <a:gd name="textAreaLeft" fmla="*/ 360 w 115920"/>
                  <a:gd name="textAreaRight" fmla="*/ 115560 w 115920"/>
                  <a:gd name="textAreaTop" fmla="*/ 360 h 255960"/>
                  <a:gd name="textAreaBottom" fmla="*/ 255600 h 255960"/>
                </a:gdLst>
                <a:ahLst/>
                <a:rect l="textAreaLeft" t="textAreaTop" r="textAreaRight" b="textAreaBottom"/>
                <a:pathLst>
                  <a:path w="21600" h="47614">
                    <a:moveTo>
                      <a:pt x="300" y="0"/>
                    </a:moveTo>
                    <a:arcTo wR="300" hR="300" stAng="16200000" swAng="-5400000"/>
                    <a:lnTo>
                      <a:pt x="0" y="47314"/>
                    </a:lnTo>
                    <a:arcTo wR="300" hR="300" stAng="10800000" swAng="-5400000"/>
                    <a:lnTo>
                      <a:pt x="21300" y="47614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" name=""/>
          <p:cNvGrpSpPr/>
          <p:nvPr/>
        </p:nvGrpSpPr>
        <p:grpSpPr>
          <a:xfrm>
            <a:off x="3505320" y="3048120"/>
            <a:ext cx="1368360" cy="990360"/>
            <a:chOff x="3505320" y="3048120"/>
            <a:chExt cx="1368360" cy="990360"/>
          </a:xfrm>
        </p:grpSpPr>
        <p:grpSp>
          <p:nvGrpSpPr>
            <p:cNvPr id="152" name=""/>
            <p:cNvGrpSpPr/>
            <p:nvPr/>
          </p:nvGrpSpPr>
          <p:grpSpPr>
            <a:xfrm>
              <a:off x="3505320" y="3308400"/>
              <a:ext cx="1368360" cy="453960"/>
              <a:chOff x="3505320" y="3308400"/>
              <a:chExt cx="1368360" cy="453960"/>
            </a:xfrm>
          </p:grpSpPr>
          <p:sp>
            <p:nvSpPr>
              <p:cNvPr id="153" name=""/>
              <p:cNvSpPr/>
              <p:nvPr/>
            </p:nvSpPr>
            <p:spPr>
              <a:xfrm>
                <a:off x="3505320" y="3308400"/>
                <a:ext cx="1368360" cy="453960"/>
              </a:xfrm>
              <a:custGeom>
                <a:avLst/>
                <a:gdLst/>
                <a:ahLst/>
                <a:rect l="l" t="t" r="r" b="b"/>
                <a:pathLst>
                  <a:path w="3802" h="1259">
                    <a:moveTo>
                      <a:pt x="1824" y="33"/>
                    </a:moveTo>
                    <a:lnTo>
                      <a:pt x="0" y="636"/>
                    </a:lnTo>
                    <a:lnTo>
                      <a:pt x="1875" y="1258"/>
                    </a:lnTo>
                    <a:lnTo>
                      <a:pt x="3801" y="620"/>
                    </a:lnTo>
                    <a:lnTo>
                      <a:pt x="1926" y="0"/>
                    </a:lnTo>
                    <a:lnTo>
                      <a:pt x="1824" y="33"/>
                    </a:lnTo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505320" y="3434400"/>
                <a:ext cx="1368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data sour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4303080" y="3763800"/>
              <a:ext cx="115920" cy="274680"/>
              <a:chOff x="4303080" y="3763800"/>
              <a:chExt cx="115920" cy="274680"/>
            </a:xfrm>
          </p:grpSpPr>
          <p:sp>
            <p:nvSpPr>
              <p:cNvPr id="156" name=""/>
              <p:cNvSpPr/>
              <p:nvPr/>
            </p:nvSpPr>
            <p:spPr>
              <a:xfrm>
                <a:off x="4303800" y="3763800"/>
                <a:ext cx="114120" cy="274680"/>
              </a:xfrm>
              <a:custGeom>
                <a:avLst/>
                <a:gdLst>
                  <a:gd name="textAreaLeft" fmla="*/ 360 w 114120"/>
                  <a:gd name="textAreaRight" fmla="*/ 113760 w 114120"/>
                  <a:gd name="textAreaTop" fmla="*/ 360 h 274680"/>
                  <a:gd name="textAreaBottom" fmla="*/ 274320 h 274680"/>
                </a:gdLst>
                <a:ahLst/>
                <a:rect l="textAreaLeft" t="textAreaTop" r="textAreaRight" b="textAreaBottom"/>
                <a:pathLst>
                  <a:path w="21600" h="51894">
                    <a:moveTo>
                      <a:pt x="300" y="0"/>
                    </a:moveTo>
                    <a:arcTo wR="300" hR="300" stAng="16200000" swAng="-5400000"/>
                    <a:lnTo>
                      <a:pt x="0" y="51594"/>
                    </a:lnTo>
                    <a:arcTo wR="300" hR="300" stAng="10800000" swAng="-5400000"/>
                    <a:lnTo>
                      <a:pt x="21300" y="51894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303080" y="3763800"/>
                <a:ext cx="115920" cy="255960"/>
              </a:xfrm>
              <a:custGeom>
                <a:avLst/>
                <a:gdLst>
                  <a:gd name="textAreaLeft" fmla="*/ 360 w 115920"/>
                  <a:gd name="textAreaRight" fmla="*/ 115560 w 115920"/>
                  <a:gd name="textAreaTop" fmla="*/ 360 h 255960"/>
                  <a:gd name="textAreaBottom" fmla="*/ 255600 h 255960"/>
                </a:gdLst>
                <a:ahLst/>
                <a:rect l="textAreaLeft" t="textAreaTop" r="textAreaRight" b="textAreaBottom"/>
                <a:pathLst>
                  <a:path w="21600" h="47614">
                    <a:moveTo>
                      <a:pt x="300" y="0"/>
                    </a:moveTo>
                    <a:arcTo wR="300" hR="300" stAng="16200000" swAng="-5400000"/>
                    <a:lnTo>
                      <a:pt x="0" y="47314"/>
                    </a:lnTo>
                    <a:arcTo wR="300" hR="300" stAng="10800000" swAng="-5400000"/>
                    <a:lnTo>
                      <a:pt x="21300" y="47614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dc23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303080" y="3048120"/>
              <a:ext cx="115920" cy="274680"/>
              <a:chOff x="4303080" y="3048120"/>
              <a:chExt cx="115920" cy="274680"/>
            </a:xfrm>
          </p:grpSpPr>
          <p:sp>
            <p:nvSpPr>
              <p:cNvPr id="159" name=""/>
              <p:cNvSpPr/>
              <p:nvPr/>
            </p:nvSpPr>
            <p:spPr>
              <a:xfrm>
                <a:off x="4303800" y="3048120"/>
                <a:ext cx="114120" cy="274680"/>
              </a:xfrm>
              <a:custGeom>
                <a:avLst/>
                <a:gdLst>
                  <a:gd name="textAreaLeft" fmla="*/ 360 w 114120"/>
                  <a:gd name="textAreaRight" fmla="*/ 113760 w 114120"/>
                  <a:gd name="textAreaTop" fmla="*/ 360 h 274680"/>
                  <a:gd name="textAreaBottom" fmla="*/ 274320 h 274680"/>
                </a:gdLst>
                <a:ahLst/>
                <a:rect l="textAreaLeft" t="textAreaTop" r="textAreaRight" b="textAreaBottom"/>
                <a:pathLst>
                  <a:path w="21600" h="51894">
                    <a:moveTo>
                      <a:pt x="300" y="0"/>
                    </a:moveTo>
                    <a:arcTo wR="300" hR="300" stAng="16200000" swAng="-5400000"/>
                    <a:lnTo>
                      <a:pt x="0" y="51594"/>
                    </a:lnTo>
                    <a:arcTo wR="300" hR="300" stAng="10800000" swAng="-5400000"/>
                    <a:lnTo>
                      <a:pt x="21300" y="51894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03080" y="3048120"/>
                <a:ext cx="115920" cy="255960"/>
              </a:xfrm>
              <a:custGeom>
                <a:avLst/>
                <a:gdLst>
                  <a:gd name="textAreaLeft" fmla="*/ 360 w 115920"/>
                  <a:gd name="textAreaRight" fmla="*/ 115560 w 115920"/>
                  <a:gd name="textAreaTop" fmla="*/ 360 h 255960"/>
                  <a:gd name="textAreaBottom" fmla="*/ 255600 h 255960"/>
                </a:gdLst>
                <a:ahLst/>
                <a:rect l="textAreaLeft" t="textAreaTop" r="textAreaRight" b="textAreaBottom"/>
                <a:pathLst>
                  <a:path w="21600" h="47614">
                    <a:moveTo>
                      <a:pt x="300" y="0"/>
                    </a:moveTo>
                    <a:arcTo wR="300" hR="300" stAng="16200000" swAng="-5400000"/>
                    <a:lnTo>
                      <a:pt x="0" y="47314"/>
                    </a:lnTo>
                    <a:arcTo wR="300" hR="300" stAng="10800000" swAng="-5400000"/>
                    <a:lnTo>
                      <a:pt x="21300" y="47614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161" name=""/>
          <p:cNvCxnSpPr>
            <a:stCxn id="55" idx="2"/>
            <a:endCxn id="143" idx="0"/>
          </p:cNvCxnSpPr>
          <p:nvPr/>
        </p:nvCxnSpPr>
        <p:spPr>
          <a:xfrm flipV="1" rot="10800000">
            <a:off x="5628600" y="1721880"/>
            <a:ext cx="2880360" cy="2454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"/>
          <p:cNvCxnSpPr>
            <a:stCxn id="153" idx="0"/>
            <a:endCxn id="71" idx="2"/>
          </p:cNvCxnSpPr>
          <p:nvPr/>
        </p:nvCxnSpPr>
        <p:spPr>
          <a:xfrm rot="10800000">
            <a:off x="2893320" y="2602800"/>
            <a:ext cx="1267560" cy="716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3" name=""/>
          <p:cNvCxnSpPr>
            <a:stCxn id="153" idx="1"/>
            <a:endCxn id="108" idx="0"/>
          </p:cNvCxnSpPr>
          <p:nvPr/>
        </p:nvCxnSpPr>
        <p:spPr>
          <a:xfrm>
            <a:off x="4179960" y="3760920"/>
            <a:ext cx="735840" cy="1627920"/>
          </a:xfrm>
          <a:prstGeom prst="bentConnector3">
            <a:avLst>
              <a:gd name="adj1" fmla="val 4997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4" name=""/>
          <p:cNvCxnSpPr>
            <a:stCxn id="143" idx="1"/>
            <a:endCxn id="108" idx="0"/>
          </p:cNvCxnSpPr>
          <p:nvPr/>
        </p:nvCxnSpPr>
        <p:spPr>
          <a:xfrm flipV="1" rot="10800000">
            <a:off x="4912560" y="4617720"/>
            <a:ext cx="731160" cy="768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65" name=""/>
          <p:cNvGrpSpPr/>
          <p:nvPr/>
        </p:nvGrpSpPr>
        <p:grpSpPr>
          <a:xfrm>
            <a:off x="2438280" y="4419720"/>
            <a:ext cx="1368720" cy="1109520"/>
            <a:chOff x="2438280" y="4419720"/>
            <a:chExt cx="1368720" cy="1109520"/>
          </a:xfrm>
        </p:grpSpPr>
        <p:sp>
          <p:nvSpPr>
            <p:cNvPr id="166" name=""/>
            <p:cNvSpPr/>
            <p:nvPr/>
          </p:nvSpPr>
          <p:spPr>
            <a:xfrm>
              <a:off x="2438280" y="4419720"/>
              <a:ext cx="1368720" cy="1109520"/>
            </a:xfrm>
            <a:prstGeom prst="roundRect">
              <a:avLst>
                <a:gd name="adj" fmla="val 139"/>
              </a:avLst>
            </a:prstGeom>
            <a:solidFill>
              <a:srgbClr val="e6e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38280" y="4435200"/>
              <a:ext cx="13687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DataFile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-lo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-back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-ow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590920" y="5748480"/>
            <a:ext cx="1256400" cy="877680"/>
            <a:chOff x="2590920" y="5748480"/>
            <a:chExt cx="1256400" cy="877680"/>
          </a:xfrm>
        </p:grpSpPr>
        <p:grpSp>
          <p:nvGrpSpPr>
            <p:cNvPr id="169" name=""/>
            <p:cNvGrpSpPr/>
            <p:nvPr/>
          </p:nvGrpSpPr>
          <p:grpSpPr>
            <a:xfrm>
              <a:off x="2590920" y="5969160"/>
              <a:ext cx="1137960" cy="657000"/>
              <a:chOff x="2590920" y="5969160"/>
              <a:chExt cx="1137960" cy="657000"/>
            </a:xfrm>
          </p:grpSpPr>
          <p:sp>
            <p:nvSpPr>
              <p:cNvPr id="170" name=""/>
              <p:cNvSpPr/>
              <p:nvPr/>
            </p:nvSpPr>
            <p:spPr>
              <a:xfrm>
                <a:off x="2590920" y="5969160"/>
                <a:ext cx="1137960" cy="657000"/>
              </a:xfrm>
              <a:custGeom>
                <a:avLst/>
                <a:gdLst/>
                <a:ahLst/>
                <a:rect l="l" t="t" r="r" b="b"/>
                <a:pathLst>
                  <a:path w="3163" h="1827">
                    <a:moveTo>
                      <a:pt x="1516" y="51"/>
                    </a:moveTo>
                    <a:lnTo>
                      <a:pt x="0" y="924"/>
                    </a:lnTo>
                    <a:lnTo>
                      <a:pt x="1560" y="1826"/>
                    </a:lnTo>
                    <a:lnTo>
                      <a:pt x="3162" y="901"/>
                    </a:lnTo>
                    <a:lnTo>
                      <a:pt x="1603" y="0"/>
                    </a:lnTo>
                    <a:lnTo>
                      <a:pt x="1516" y="51"/>
                    </a:lnTo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590920" y="6197760"/>
                <a:ext cx="1137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derived dat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3731400" y="6234120"/>
              <a:ext cx="115920" cy="264960"/>
              <a:chOff x="3731400" y="6234120"/>
              <a:chExt cx="115920" cy="264960"/>
            </a:xfrm>
          </p:grpSpPr>
          <p:sp>
            <p:nvSpPr>
              <p:cNvPr id="173" name=""/>
              <p:cNvSpPr/>
              <p:nvPr/>
            </p:nvSpPr>
            <p:spPr>
              <a:xfrm>
                <a:off x="3732120" y="6234120"/>
                <a:ext cx="114480" cy="264960"/>
              </a:xfrm>
              <a:custGeom>
                <a:avLst/>
                <a:gdLst>
                  <a:gd name="textAreaLeft" fmla="*/ 360 w 114480"/>
                  <a:gd name="textAreaRight" fmla="*/ 114120 w 114480"/>
                  <a:gd name="textAreaTop" fmla="*/ 360 h 264960"/>
                  <a:gd name="textAreaBottom" fmla="*/ 264600 h 264960"/>
                </a:gdLst>
                <a:ahLst/>
                <a:rect l="textAreaLeft" t="textAreaTop" r="textAreaRight" b="textAreaBottom"/>
                <a:pathLst>
                  <a:path w="21600" h="49903">
                    <a:moveTo>
                      <a:pt x="300" y="0"/>
                    </a:moveTo>
                    <a:arcTo wR="300" hR="300" stAng="16200000" swAng="-5400000"/>
                    <a:lnTo>
                      <a:pt x="0" y="49603"/>
                    </a:lnTo>
                    <a:arcTo wR="300" hR="300" stAng="10800000" swAng="-5400000"/>
                    <a:lnTo>
                      <a:pt x="21300" y="49903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731400" y="6234120"/>
                <a:ext cx="115920" cy="255960"/>
              </a:xfrm>
              <a:custGeom>
                <a:avLst/>
                <a:gdLst>
                  <a:gd name="textAreaLeft" fmla="*/ 360 w 115920"/>
                  <a:gd name="textAreaRight" fmla="*/ 115560 w 115920"/>
                  <a:gd name="textAreaTop" fmla="*/ 360 h 255960"/>
                  <a:gd name="textAreaBottom" fmla="*/ 255600 h 255960"/>
                </a:gdLst>
                <a:ahLst/>
                <a:rect l="textAreaLeft" t="textAreaTop" r="textAreaRight" b="textAreaBottom"/>
                <a:pathLst>
                  <a:path w="21600" h="47614">
                    <a:moveTo>
                      <a:pt x="300" y="0"/>
                    </a:moveTo>
                    <a:arcTo wR="300" hR="300" stAng="16200000" swAng="-5400000"/>
                    <a:lnTo>
                      <a:pt x="0" y="47314"/>
                    </a:lnTo>
                    <a:arcTo wR="300" hR="300" stAng="10800000" swAng="-5400000"/>
                    <a:lnTo>
                      <a:pt x="21300" y="47614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dc23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275280" y="5748480"/>
              <a:ext cx="115920" cy="264960"/>
              <a:chOff x="3275280" y="5748480"/>
              <a:chExt cx="115920" cy="264960"/>
            </a:xfrm>
          </p:grpSpPr>
          <p:sp>
            <p:nvSpPr>
              <p:cNvPr id="176" name=""/>
              <p:cNvSpPr/>
              <p:nvPr/>
            </p:nvSpPr>
            <p:spPr>
              <a:xfrm>
                <a:off x="3276720" y="5748480"/>
                <a:ext cx="114120" cy="264960"/>
              </a:xfrm>
              <a:custGeom>
                <a:avLst/>
                <a:gdLst>
                  <a:gd name="textAreaLeft" fmla="*/ 360 w 114120"/>
                  <a:gd name="textAreaRight" fmla="*/ 113760 w 114120"/>
                  <a:gd name="textAreaTop" fmla="*/ 360 h 264960"/>
                  <a:gd name="textAreaBottom" fmla="*/ 264600 h 264960"/>
                </a:gdLst>
                <a:ahLst/>
                <a:rect l="textAreaLeft" t="textAreaTop" r="textAreaRight" b="textAreaBottom"/>
                <a:pathLst>
                  <a:path w="21600" h="50060">
                    <a:moveTo>
                      <a:pt x="300" y="0"/>
                    </a:moveTo>
                    <a:arcTo wR="300" hR="300" stAng="16200000" swAng="-5400000"/>
                    <a:lnTo>
                      <a:pt x="0" y="49760"/>
                    </a:lnTo>
                    <a:arcTo wR="300" hR="300" stAng="10800000" swAng="-5400000"/>
                    <a:lnTo>
                      <a:pt x="21300" y="50060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275280" y="5748480"/>
                <a:ext cx="115920" cy="255960"/>
              </a:xfrm>
              <a:custGeom>
                <a:avLst/>
                <a:gdLst>
                  <a:gd name="textAreaLeft" fmla="*/ 360 w 115920"/>
                  <a:gd name="textAreaRight" fmla="*/ 115560 w 115920"/>
                  <a:gd name="textAreaTop" fmla="*/ 360 h 255960"/>
                  <a:gd name="textAreaBottom" fmla="*/ 255600 h 255960"/>
                </a:gdLst>
                <a:ahLst/>
                <a:rect l="textAreaLeft" t="textAreaTop" r="textAreaRight" b="textAreaBottom"/>
                <a:pathLst>
                  <a:path w="21600" h="47614">
                    <a:moveTo>
                      <a:pt x="308" y="0"/>
                    </a:moveTo>
                    <a:arcTo wR="308" hR="308" stAng="16200000" swAng="-5400000"/>
                    <a:lnTo>
                      <a:pt x="0" y="47306"/>
                    </a:lnTo>
                    <a:arcTo wR="308" hR="308" stAng="10800000" swAng="-5400000"/>
                    <a:lnTo>
                      <a:pt x="21292" y="47614"/>
                    </a:lnTo>
                    <a:arcTo wR="308" hR="308" stAng="5400000" swAng="-5400000"/>
                    <a:lnTo>
                      <a:pt x="21600" y="308"/>
                    </a:lnTo>
                    <a:arcTo wR="308" hR="308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178" name=""/>
          <p:cNvCxnSpPr>
            <a:stCxn id="170" idx="0"/>
            <a:endCxn id="108" idx="1"/>
          </p:cNvCxnSpPr>
          <p:nvPr/>
        </p:nvCxnSpPr>
        <p:spPr>
          <a:xfrm flipV="1">
            <a:off x="3728880" y="5940000"/>
            <a:ext cx="464400" cy="351360"/>
          </a:xfrm>
          <a:prstGeom prst="bentConnector3">
            <a:avLst>
              <a:gd name="adj1" fmla="val 4996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endCxn id="166" idx="2"/>
          </p:cNvCxnSpPr>
          <p:nvPr/>
        </p:nvCxnSpPr>
        <p:spPr>
          <a:xfrm rot="10800000">
            <a:off x="3121920" y="5528520"/>
            <a:ext cx="38880" cy="440640"/>
          </a:xfrm>
          <a:prstGeom prst="bentConnector3">
            <a:avLst>
              <a:gd name="adj1" fmla="val 4953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80" name=""/>
          <p:cNvGrpSpPr/>
          <p:nvPr/>
        </p:nvGrpSpPr>
        <p:grpSpPr>
          <a:xfrm>
            <a:off x="1981080" y="2971800"/>
            <a:ext cx="1140120" cy="1155600"/>
            <a:chOff x="1981080" y="2971800"/>
            <a:chExt cx="1140120" cy="1155600"/>
          </a:xfrm>
        </p:grpSpPr>
        <p:grpSp>
          <p:nvGrpSpPr>
            <p:cNvPr id="181" name=""/>
            <p:cNvGrpSpPr/>
            <p:nvPr/>
          </p:nvGrpSpPr>
          <p:grpSpPr>
            <a:xfrm>
              <a:off x="1981080" y="3200400"/>
              <a:ext cx="1140120" cy="682560"/>
              <a:chOff x="1981080" y="3200400"/>
              <a:chExt cx="1140120" cy="682560"/>
            </a:xfrm>
          </p:grpSpPr>
          <p:sp>
            <p:nvSpPr>
              <p:cNvPr id="182" name=""/>
              <p:cNvSpPr/>
              <p:nvPr/>
            </p:nvSpPr>
            <p:spPr>
              <a:xfrm>
                <a:off x="1981080" y="3200400"/>
                <a:ext cx="1140120" cy="682560"/>
              </a:xfrm>
              <a:custGeom>
                <a:avLst/>
                <a:gdLst/>
                <a:ahLst/>
                <a:rect l="l" t="t" r="r" b="b"/>
                <a:pathLst>
                  <a:path w="3168" h="1894">
                    <a:moveTo>
                      <a:pt x="1518" y="52"/>
                    </a:moveTo>
                    <a:lnTo>
                      <a:pt x="0" y="958"/>
                    </a:lnTo>
                    <a:lnTo>
                      <a:pt x="1562" y="1893"/>
                    </a:lnTo>
                    <a:lnTo>
                      <a:pt x="3167" y="934"/>
                    </a:lnTo>
                    <a:lnTo>
                      <a:pt x="1605" y="0"/>
                    </a:lnTo>
                    <a:lnTo>
                      <a:pt x="1518" y="52"/>
                    </a:lnTo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81080" y="3440880"/>
                <a:ext cx="1140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raw dat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2321640" y="3852720"/>
              <a:ext cx="115920" cy="274680"/>
              <a:chOff x="2321640" y="3852720"/>
              <a:chExt cx="115920" cy="274680"/>
            </a:xfrm>
          </p:grpSpPr>
          <p:sp>
            <p:nvSpPr>
              <p:cNvPr id="185" name=""/>
              <p:cNvSpPr/>
              <p:nvPr/>
            </p:nvSpPr>
            <p:spPr>
              <a:xfrm>
                <a:off x="2322360" y="3852720"/>
                <a:ext cx="114480" cy="274680"/>
              </a:xfrm>
              <a:custGeom>
                <a:avLst/>
                <a:gdLst>
                  <a:gd name="textAreaLeft" fmla="*/ 360 w 114480"/>
                  <a:gd name="textAreaRight" fmla="*/ 114120 w 114480"/>
                  <a:gd name="textAreaTop" fmla="*/ 360 h 274680"/>
                  <a:gd name="textAreaBottom" fmla="*/ 274320 h 274680"/>
                </a:gdLst>
                <a:ahLst/>
                <a:rect l="textAreaLeft" t="textAreaTop" r="textAreaRight" b="textAreaBottom"/>
                <a:pathLst>
                  <a:path w="21600" h="51732">
                    <a:moveTo>
                      <a:pt x="300" y="0"/>
                    </a:moveTo>
                    <a:arcTo wR="300" hR="300" stAng="16200000" swAng="-5400000"/>
                    <a:lnTo>
                      <a:pt x="0" y="51432"/>
                    </a:lnTo>
                    <a:arcTo wR="300" hR="300" stAng="10800000" swAng="-5400000"/>
                    <a:lnTo>
                      <a:pt x="21300" y="51732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321640" y="3852720"/>
                <a:ext cx="115920" cy="255960"/>
              </a:xfrm>
              <a:custGeom>
                <a:avLst/>
                <a:gdLst>
                  <a:gd name="textAreaLeft" fmla="*/ 360 w 115920"/>
                  <a:gd name="textAreaRight" fmla="*/ 115560 w 115920"/>
                  <a:gd name="textAreaTop" fmla="*/ 360 h 255960"/>
                  <a:gd name="textAreaBottom" fmla="*/ 255600 h 255960"/>
                </a:gdLst>
                <a:ahLst/>
                <a:rect l="textAreaLeft" t="textAreaTop" r="textAreaRight" b="textAreaBottom"/>
                <a:pathLst>
                  <a:path w="21600" h="47614">
                    <a:moveTo>
                      <a:pt x="300" y="0"/>
                    </a:moveTo>
                    <a:arcTo wR="300" hR="300" stAng="16200000" swAng="-5400000"/>
                    <a:lnTo>
                      <a:pt x="0" y="47314"/>
                    </a:lnTo>
                    <a:arcTo wR="300" hR="300" stAng="10800000" swAng="-5400000"/>
                    <a:lnTo>
                      <a:pt x="21300" y="47614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dc23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321640" y="2971800"/>
              <a:ext cx="115920" cy="274680"/>
              <a:chOff x="2321640" y="2971800"/>
              <a:chExt cx="115920" cy="274680"/>
            </a:xfrm>
          </p:grpSpPr>
          <p:sp>
            <p:nvSpPr>
              <p:cNvPr id="188" name=""/>
              <p:cNvSpPr/>
              <p:nvPr/>
            </p:nvSpPr>
            <p:spPr>
              <a:xfrm>
                <a:off x="2322360" y="2971800"/>
                <a:ext cx="114480" cy="274680"/>
              </a:xfrm>
              <a:custGeom>
                <a:avLst/>
                <a:gdLst>
                  <a:gd name="textAreaLeft" fmla="*/ 360 w 114480"/>
                  <a:gd name="textAreaRight" fmla="*/ 114120 w 114480"/>
                  <a:gd name="textAreaTop" fmla="*/ 360 h 274680"/>
                  <a:gd name="textAreaBottom" fmla="*/ 274320 h 274680"/>
                </a:gdLst>
                <a:ahLst/>
                <a:rect l="textAreaLeft" t="textAreaTop" r="textAreaRight" b="textAreaBottom"/>
                <a:pathLst>
                  <a:path w="21600" h="51732">
                    <a:moveTo>
                      <a:pt x="300" y="0"/>
                    </a:moveTo>
                    <a:arcTo wR="300" hR="300" stAng="16200000" swAng="-5400000"/>
                    <a:lnTo>
                      <a:pt x="0" y="51432"/>
                    </a:lnTo>
                    <a:arcTo wR="300" hR="300" stAng="10800000" swAng="-5400000"/>
                    <a:lnTo>
                      <a:pt x="21300" y="51732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321640" y="2971800"/>
                <a:ext cx="115920" cy="255960"/>
              </a:xfrm>
              <a:custGeom>
                <a:avLst/>
                <a:gdLst>
                  <a:gd name="textAreaLeft" fmla="*/ 360 w 115920"/>
                  <a:gd name="textAreaRight" fmla="*/ 115560 w 115920"/>
                  <a:gd name="textAreaTop" fmla="*/ 360 h 255960"/>
                  <a:gd name="textAreaBottom" fmla="*/ 255600 h 255960"/>
                </a:gdLst>
                <a:ahLst/>
                <a:rect l="textAreaLeft" t="textAreaTop" r="textAreaRight" b="textAreaBottom"/>
                <a:pathLst>
                  <a:path w="21600" h="47614">
                    <a:moveTo>
                      <a:pt x="300" y="0"/>
                    </a:moveTo>
                    <a:arcTo wR="300" hR="300" stAng="16200000" swAng="-5400000"/>
                    <a:lnTo>
                      <a:pt x="0" y="47314"/>
                    </a:lnTo>
                    <a:arcTo wR="300" hR="300" stAng="10800000" swAng="-5400000"/>
                    <a:lnTo>
                      <a:pt x="21300" y="47614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190" name=""/>
          <p:cNvCxnSpPr>
            <a:stCxn id="182" idx="0"/>
            <a:endCxn id="166" idx="0"/>
          </p:cNvCxnSpPr>
          <p:nvPr/>
        </p:nvCxnSpPr>
        <p:spPr>
          <a:xfrm>
            <a:off x="2543040" y="3881160"/>
            <a:ext cx="580320" cy="540360"/>
          </a:xfrm>
          <a:prstGeom prst="bentConnector3">
            <a:avLst>
              <a:gd name="adj1" fmla="val 4996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" name=""/>
          <p:cNvCxnSpPr>
            <a:endCxn id="71" idx="2"/>
          </p:cNvCxnSpPr>
          <p:nvPr/>
        </p:nvCxnSpPr>
        <p:spPr>
          <a:xfrm flipV="1">
            <a:off x="2550600" y="2603160"/>
            <a:ext cx="343800" cy="597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2" name=""/>
          <p:cNvCxnSpPr>
            <a:stCxn id="193" idx="0"/>
            <a:endCxn id="52" idx="1"/>
          </p:cNvCxnSpPr>
          <p:nvPr/>
        </p:nvCxnSpPr>
        <p:spPr>
          <a:xfrm flipV="1" rot="10800000">
            <a:off x="337320" y="1639440"/>
            <a:ext cx="159480" cy="2237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" name=""/>
          <p:cNvCxnSpPr>
            <a:endCxn id="55" idx="0"/>
          </p:cNvCxnSpPr>
          <p:nvPr/>
        </p:nvCxnSpPr>
        <p:spPr>
          <a:xfrm flipV="1">
            <a:off x="952200" y="1191600"/>
            <a:ext cx="7558920" cy="135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95" name=""/>
          <p:cNvGrpSpPr/>
          <p:nvPr/>
        </p:nvGrpSpPr>
        <p:grpSpPr>
          <a:xfrm>
            <a:off x="380160" y="1066680"/>
            <a:ext cx="1027800" cy="879480"/>
            <a:chOff x="380160" y="1066680"/>
            <a:chExt cx="1027800" cy="879480"/>
          </a:xfrm>
        </p:grpSpPr>
        <p:grpSp>
          <p:nvGrpSpPr>
            <p:cNvPr id="196" name=""/>
            <p:cNvGrpSpPr/>
            <p:nvPr/>
          </p:nvGrpSpPr>
          <p:grpSpPr>
            <a:xfrm>
              <a:off x="496800" y="1327320"/>
              <a:ext cx="911160" cy="618840"/>
              <a:chOff x="496800" y="1327320"/>
              <a:chExt cx="911160" cy="618840"/>
            </a:xfrm>
          </p:grpSpPr>
          <p:sp>
            <p:nvSpPr>
              <p:cNvPr id="193" name=""/>
              <p:cNvSpPr/>
              <p:nvPr/>
            </p:nvSpPr>
            <p:spPr>
              <a:xfrm>
                <a:off x="496800" y="1327320"/>
                <a:ext cx="911160" cy="618840"/>
              </a:xfrm>
              <a:custGeom>
                <a:avLst/>
                <a:gdLst/>
                <a:ahLst/>
                <a:rect l="l" t="t" r="r" b="b"/>
                <a:pathLst>
                  <a:path w="2532" h="1720">
                    <a:moveTo>
                      <a:pt x="1214" y="45"/>
                    </a:moveTo>
                    <a:lnTo>
                      <a:pt x="0" y="868"/>
                    </a:lnTo>
                    <a:lnTo>
                      <a:pt x="1249" y="1719"/>
                    </a:lnTo>
                    <a:lnTo>
                      <a:pt x="2531" y="848"/>
                    </a:lnTo>
                    <a:lnTo>
                      <a:pt x="1282" y="0"/>
                    </a:lnTo>
                    <a:lnTo>
                      <a:pt x="1214" y="45"/>
                    </a:lnTo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96800" y="1537560"/>
                <a:ext cx="911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reserv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24680" y="1066680"/>
              <a:ext cx="115920" cy="274680"/>
              <a:chOff x="724680" y="1066680"/>
              <a:chExt cx="115920" cy="274680"/>
            </a:xfrm>
          </p:grpSpPr>
          <p:sp>
            <p:nvSpPr>
              <p:cNvPr id="199" name=""/>
              <p:cNvSpPr/>
              <p:nvPr/>
            </p:nvSpPr>
            <p:spPr>
              <a:xfrm>
                <a:off x="725400" y="1066680"/>
                <a:ext cx="114480" cy="274680"/>
              </a:xfrm>
              <a:custGeom>
                <a:avLst/>
                <a:gdLst>
                  <a:gd name="textAreaLeft" fmla="*/ 360 w 114480"/>
                  <a:gd name="textAreaRight" fmla="*/ 114120 w 114480"/>
                  <a:gd name="textAreaTop" fmla="*/ 360 h 274680"/>
                  <a:gd name="textAreaBottom" fmla="*/ 274320 h 274680"/>
                </a:gdLst>
                <a:ahLst/>
                <a:rect l="textAreaLeft" t="textAreaTop" r="textAreaRight" b="textAreaBottom"/>
                <a:pathLst>
                  <a:path w="21600" h="51732">
                    <a:moveTo>
                      <a:pt x="300" y="0"/>
                    </a:moveTo>
                    <a:arcTo wR="300" hR="300" stAng="16200000" swAng="-5400000"/>
                    <a:lnTo>
                      <a:pt x="0" y="51432"/>
                    </a:lnTo>
                    <a:arcTo wR="300" hR="300" stAng="10800000" swAng="-5400000"/>
                    <a:lnTo>
                      <a:pt x="21300" y="51732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24680" y="1066680"/>
                <a:ext cx="115920" cy="255960"/>
              </a:xfrm>
              <a:custGeom>
                <a:avLst/>
                <a:gdLst>
                  <a:gd name="textAreaLeft" fmla="*/ 360 w 115920"/>
                  <a:gd name="textAreaRight" fmla="*/ 115560 w 115920"/>
                  <a:gd name="textAreaTop" fmla="*/ 360 h 255960"/>
                  <a:gd name="textAreaBottom" fmla="*/ 255600 h 255960"/>
                </a:gdLst>
                <a:ahLst/>
                <a:rect l="textAreaLeft" t="textAreaTop" r="textAreaRight" b="textAreaBottom"/>
                <a:pathLst>
                  <a:path w="21600" h="47614">
                    <a:moveTo>
                      <a:pt x="300" y="0"/>
                    </a:moveTo>
                    <a:arcTo wR="300" hR="300" stAng="16200000" swAng="-5400000"/>
                    <a:lnTo>
                      <a:pt x="0" y="47314"/>
                    </a:lnTo>
                    <a:arcTo wR="300" hR="300" stAng="10800000" swAng="-5400000"/>
                    <a:lnTo>
                      <a:pt x="21300" y="47614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380160" y="1295280"/>
              <a:ext cx="115920" cy="274680"/>
              <a:chOff x="380160" y="1295280"/>
              <a:chExt cx="115920" cy="274680"/>
            </a:xfrm>
          </p:grpSpPr>
          <p:sp>
            <p:nvSpPr>
              <p:cNvPr id="202" name=""/>
              <p:cNvSpPr/>
              <p:nvPr/>
            </p:nvSpPr>
            <p:spPr>
              <a:xfrm>
                <a:off x="380880" y="1295280"/>
                <a:ext cx="114480" cy="274680"/>
              </a:xfrm>
              <a:custGeom>
                <a:avLst/>
                <a:gdLst>
                  <a:gd name="textAreaLeft" fmla="*/ 360 w 114480"/>
                  <a:gd name="textAreaRight" fmla="*/ 114120 w 114480"/>
                  <a:gd name="textAreaTop" fmla="*/ 360 h 274680"/>
                  <a:gd name="textAreaBottom" fmla="*/ 274320 h 274680"/>
                </a:gdLst>
                <a:ahLst/>
                <a:rect l="textAreaLeft" t="textAreaTop" r="textAreaRight" b="textAreaBottom"/>
                <a:pathLst>
                  <a:path w="21600" h="51732">
                    <a:moveTo>
                      <a:pt x="300" y="0"/>
                    </a:moveTo>
                    <a:arcTo wR="300" hR="300" stAng="16200000" swAng="-5400000"/>
                    <a:lnTo>
                      <a:pt x="0" y="51432"/>
                    </a:lnTo>
                    <a:arcTo wR="300" hR="300" stAng="10800000" swAng="-5400000"/>
                    <a:lnTo>
                      <a:pt x="21300" y="51732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80160" y="1295280"/>
                <a:ext cx="115920" cy="255960"/>
              </a:xfrm>
              <a:custGeom>
                <a:avLst/>
                <a:gdLst>
                  <a:gd name="textAreaLeft" fmla="*/ 360 w 115920"/>
                  <a:gd name="textAreaRight" fmla="*/ 115560 w 115920"/>
                  <a:gd name="textAreaTop" fmla="*/ 360 h 255960"/>
                  <a:gd name="textAreaBottom" fmla="*/ 255600 h 255960"/>
                </a:gdLst>
                <a:ahLst/>
                <a:rect l="textAreaLeft" t="textAreaTop" r="textAreaRight" b="textAreaBottom"/>
                <a:pathLst>
                  <a:path w="21600" h="47614">
                    <a:moveTo>
                      <a:pt x="300" y="0"/>
                    </a:moveTo>
                    <a:arcTo wR="300" hR="300" stAng="16200000" swAng="-5400000"/>
                    <a:lnTo>
                      <a:pt x="0" y="47314"/>
                    </a:lnTo>
                    <a:arcTo wR="300" hR="300" stAng="10800000" swAng="-5400000"/>
                    <a:lnTo>
                      <a:pt x="21300" y="47614"/>
                    </a:lnTo>
                    <a:arcTo wR="300" hR="300" stAng="5400000" swAng="-5400000"/>
                    <a:lnTo>
                      <a:pt x="21600" y="300"/>
                    </a:lnTo>
                    <a:arcTo wR="300" hR="30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487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dc2300"/>
                </a:solidFill>
                <a:latin typeface="Comic Sans MS"/>
              </a:rPr>
              <a:t>Basic Database Structure</a:t>
            </a:r>
            <a:endParaRPr b="0" lang="en-US" sz="3600" spc="-1" strike="noStrike">
              <a:solidFill>
                <a:srgbClr val="dc2300"/>
              </a:solidFill>
              <a:latin typeface="Comic Sans MS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192720" y="2351160"/>
            <a:ext cx="1028880" cy="530280"/>
            <a:chOff x="6192720" y="2351160"/>
            <a:chExt cx="1028880" cy="530280"/>
          </a:xfrm>
        </p:grpSpPr>
        <p:sp>
          <p:nvSpPr>
            <p:cNvPr id="206" name=""/>
            <p:cNvSpPr/>
            <p:nvPr/>
          </p:nvSpPr>
          <p:spPr>
            <a:xfrm>
              <a:off x="6192720" y="2351160"/>
              <a:ext cx="1027080" cy="530280"/>
            </a:xfrm>
            <a:prstGeom prst="roundRect">
              <a:avLst>
                <a:gd name="adj" fmla="val 296"/>
              </a:avLst>
            </a:prstGeom>
            <a:solidFill>
              <a:srgbClr val="e6e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94520" y="2488680"/>
              <a:ext cx="102708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Subjec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7294680" y="3178080"/>
            <a:ext cx="1028520" cy="530280"/>
            <a:chOff x="7294680" y="3178080"/>
            <a:chExt cx="1028520" cy="530280"/>
          </a:xfrm>
        </p:grpSpPr>
        <p:sp>
          <p:nvSpPr>
            <p:cNvPr id="209" name=""/>
            <p:cNvSpPr/>
            <p:nvPr/>
          </p:nvSpPr>
          <p:spPr>
            <a:xfrm>
              <a:off x="7294680" y="3178080"/>
              <a:ext cx="1028520" cy="530280"/>
            </a:xfrm>
            <a:prstGeom prst="roundRect">
              <a:avLst>
                <a:gd name="adj" fmla="val 296"/>
              </a:avLst>
            </a:prstGeom>
            <a:solidFill>
              <a:srgbClr val="e6e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294680" y="3315600"/>
              <a:ext cx="10285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RO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1" name=""/>
          <p:cNvCxnSpPr/>
          <p:nvPr/>
        </p:nvCxnSpPr>
        <p:spPr>
          <a:xfrm rot="10800000">
            <a:off x="6430320" y="3385440"/>
            <a:ext cx="864360" cy="57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2" name=""/>
          <p:cNvGrpSpPr/>
          <p:nvPr/>
        </p:nvGrpSpPr>
        <p:grpSpPr>
          <a:xfrm>
            <a:off x="5370480" y="2936880"/>
            <a:ext cx="1163160" cy="657360"/>
            <a:chOff x="5370480" y="2936880"/>
            <a:chExt cx="1163160" cy="657360"/>
          </a:xfrm>
        </p:grpSpPr>
        <p:grpSp>
          <p:nvGrpSpPr>
            <p:cNvPr id="213" name=""/>
            <p:cNvGrpSpPr/>
            <p:nvPr/>
          </p:nvGrpSpPr>
          <p:grpSpPr>
            <a:xfrm>
              <a:off x="5370480" y="3178080"/>
              <a:ext cx="1057320" cy="416160"/>
              <a:chOff x="5370480" y="3178080"/>
              <a:chExt cx="1057320" cy="416160"/>
            </a:xfrm>
          </p:grpSpPr>
          <p:sp>
            <p:nvSpPr>
              <p:cNvPr id="214" name=""/>
              <p:cNvSpPr/>
              <p:nvPr/>
            </p:nvSpPr>
            <p:spPr>
              <a:xfrm>
                <a:off x="5370480" y="3178080"/>
                <a:ext cx="1057320" cy="416160"/>
              </a:xfrm>
              <a:custGeom>
                <a:avLst/>
                <a:gdLst/>
                <a:ahLst/>
                <a:rect l="l" t="t" r="r" b="b"/>
                <a:pathLst>
                  <a:path w="2937" h="1154">
                    <a:moveTo>
                      <a:pt x="1408" y="31"/>
                    </a:moveTo>
                    <a:lnTo>
                      <a:pt x="0" y="582"/>
                    </a:lnTo>
                    <a:lnTo>
                      <a:pt x="1448" y="1153"/>
                    </a:lnTo>
                    <a:lnTo>
                      <a:pt x="2936" y="568"/>
                    </a:lnTo>
                    <a:lnTo>
                      <a:pt x="1488" y="0"/>
                    </a:lnTo>
                    <a:lnTo>
                      <a:pt x="1408" y="31"/>
                    </a:lnTo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370480" y="3286800"/>
                <a:ext cx="1057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subjec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5733360" y="2936880"/>
              <a:ext cx="115920" cy="255960"/>
              <a:chOff x="5733360" y="2936880"/>
              <a:chExt cx="115920" cy="255960"/>
            </a:xfrm>
          </p:grpSpPr>
          <p:sp>
            <p:nvSpPr>
              <p:cNvPr id="217" name=""/>
              <p:cNvSpPr/>
              <p:nvPr/>
            </p:nvSpPr>
            <p:spPr>
              <a:xfrm>
                <a:off x="5746680" y="2936880"/>
                <a:ext cx="88920" cy="237960"/>
              </a:xfrm>
              <a:custGeom>
                <a:avLst/>
                <a:gdLst>
                  <a:gd name="textAreaLeft" fmla="*/ 360 w 88920"/>
                  <a:gd name="textAreaRight" fmla="*/ 88560 w 88920"/>
                  <a:gd name="textAreaTop" fmla="*/ 360 h 237960"/>
                  <a:gd name="textAreaBottom" fmla="*/ 237600 h 237960"/>
                </a:gdLst>
                <a:ahLst/>
                <a:rect l="textAreaLeft" t="textAreaTop" r="textAreaRight" b="textAreaBottom"/>
                <a:pathLst>
                  <a:path w="21600" h="57658">
                    <a:moveTo>
                      <a:pt x="385" y="0"/>
                    </a:moveTo>
                    <a:arcTo wR="385" hR="385" stAng="16200000" swAng="-5400000"/>
                    <a:lnTo>
                      <a:pt x="0" y="57273"/>
                    </a:lnTo>
                    <a:arcTo wR="385" hR="385" stAng="10800000" swAng="-5400000"/>
                    <a:lnTo>
                      <a:pt x="21215" y="57658"/>
                    </a:lnTo>
                    <a:arcTo wR="385" hR="385" stAng="5400000" swAng="-5400000"/>
                    <a:lnTo>
                      <a:pt x="21600" y="385"/>
                    </a:lnTo>
                    <a:arcTo wR="385" hR="385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733360" y="2936880"/>
                <a:ext cx="115920" cy="255960"/>
              </a:xfrm>
              <a:custGeom>
                <a:avLst/>
                <a:gdLst>
                  <a:gd name="textAreaLeft" fmla="*/ 360 w 115920"/>
                  <a:gd name="textAreaRight" fmla="*/ 115560 w 115920"/>
                  <a:gd name="textAreaTop" fmla="*/ 360 h 255960"/>
                  <a:gd name="textAreaBottom" fmla="*/ 255600 h 255960"/>
                </a:gdLst>
                <a:ahLst/>
                <a:rect l="textAreaLeft" t="textAreaTop" r="textAreaRight" b="textAreaBottom"/>
                <a:pathLst>
                  <a:path w="21600" h="47614">
                    <a:moveTo>
                      <a:pt x="385" y="0"/>
                    </a:moveTo>
                    <a:arcTo wR="385" hR="385" stAng="16200000" swAng="-5400000"/>
                    <a:lnTo>
                      <a:pt x="0" y="47229"/>
                    </a:lnTo>
                    <a:arcTo wR="385" hR="385" stAng="10800000" swAng="-5400000"/>
                    <a:lnTo>
                      <a:pt x="21215" y="47614"/>
                    </a:lnTo>
                    <a:arcTo wR="385" hR="385" stAng="5400000" swAng="-5400000"/>
                    <a:lnTo>
                      <a:pt x="21600" y="385"/>
                    </a:lnTo>
                    <a:arcTo wR="385" hR="385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6417720" y="3333600"/>
              <a:ext cx="115920" cy="255960"/>
              <a:chOff x="6417720" y="3333600"/>
              <a:chExt cx="115920" cy="255960"/>
            </a:xfrm>
          </p:grpSpPr>
          <p:sp>
            <p:nvSpPr>
              <p:cNvPr id="220" name=""/>
              <p:cNvSpPr/>
              <p:nvPr/>
            </p:nvSpPr>
            <p:spPr>
              <a:xfrm>
                <a:off x="6431040" y="3333600"/>
                <a:ext cx="88920" cy="238320"/>
              </a:xfrm>
              <a:custGeom>
                <a:avLst/>
                <a:gdLst>
                  <a:gd name="textAreaLeft" fmla="*/ 360 w 88920"/>
                  <a:gd name="textAreaRight" fmla="*/ 88560 w 88920"/>
                  <a:gd name="textAreaTop" fmla="*/ 360 h 238320"/>
                  <a:gd name="textAreaBottom" fmla="*/ 237960 h 238320"/>
                </a:gdLst>
                <a:ahLst/>
                <a:rect l="textAreaLeft" t="textAreaTop" r="textAreaRight" b="textAreaBottom"/>
                <a:pathLst>
                  <a:path w="21600" h="57745">
                    <a:moveTo>
                      <a:pt x="385" y="0"/>
                    </a:moveTo>
                    <a:arcTo wR="385" hR="385" stAng="16200000" swAng="-5400000"/>
                    <a:lnTo>
                      <a:pt x="0" y="57360"/>
                    </a:lnTo>
                    <a:arcTo wR="385" hR="385" stAng="10800000" swAng="-5400000"/>
                    <a:lnTo>
                      <a:pt x="21215" y="57745"/>
                    </a:lnTo>
                    <a:arcTo wR="385" hR="385" stAng="5400000" swAng="-5400000"/>
                    <a:lnTo>
                      <a:pt x="21600" y="385"/>
                    </a:lnTo>
                    <a:arcTo wR="385" hR="385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417720" y="3333600"/>
                <a:ext cx="115920" cy="255960"/>
              </a:xfrm>
              <a:custGeom>
                <a:avLst/>
                <a:gdLst>
                  <a:gd name="textAreaLeft" fmla="*/ 360 w 115920"/>
                  <a:gd name="textAreaRight" fmla="*/ 115560 w 115920"/>
                  <a:gd name="textAreaTop" fmla="*/ 360 h 255960"/>
                  <a:gd name="textAreaBottom" fmla="*/ 255600 h 255960"/>
                </a:gdLst>
                <a:ahLst/>
                <a:rect l="textAreaLeft" t="textAreaTop" r="textAreaRight" b="textAreaBottom"/>
                <a:pathLst>
                  <a:path w="21600" h="47614">
                    <a:moveTo>
                      <a:pt x="385" y="0"/>
                    </a:moveTo>
                    <a:arcTo wR="385" hR="385" stAng="16200000" swAng="-5400000"/>
                    <a:lnTo>
                      <a:pt x="0" y="47229"/>
                    </a:lnTo>
                    <a:arcTo wR="385" hR="385" stAng="10800000" swAng="-5400000"/>
                    <a:lnTo>
                      <a:pt x="21215" y="47614"/>
                    </a:lnTo>
                    <a:arcTo wR="385" hR="385" stAng="5400000" swAng="-5400000"/>
                    <a:lnTo>
                      <a:pt x="21600" y="385"/>
                    </a:lnTo>
                    <a:arcTo wR="385" hR="385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222" name=""/>
          <p:cNvCxnSpPr/>
          <p:nvPr/>
        </p:nvCxnSpPr>
        <p:spPr>
          <a:xfrm flipV="1" rot="10800000">
            <a:off x="5900040" y="2882520"/>
            <a:ext cx="808560" cy="297720"/>
          </a:xfrm>
          <a:prstGeom prst="bentConnector3">
            <a:avLst>
              <a:gd name="adj1" fmla="val 49977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23" name=""/>
          <p:cNvGrpSpPr/>
          <p:nvPr/>
        </p:nvGrpSpPr>
        <p:grpSpPr>
          <a:xfrm>
            <a:off x="7518240" y="2519280"/>
            <a:ext cx="816120" cy="393840"/>
            <a:chOff x="7518240" y="2519280"/>
            <a:chExt cx="816120" cy="393840"/>
          </a:xfrm>
        </p:grpSpPr>
        <p:sp>
          <p:nvSpPr>
            <p:cNvPr id="224" name=""/>
            <p:cNvSpPr/>
            <p:nvPr/>
          </p:nvSpPr>
          <p:spPr>
            <a:xfrm>
              <a:off x="7518240" y="2519280"/>
              <a:ext cx="816120" cy="393840"/>
            </a:xfrm>
            <a:custGeom>
              <a:avLst/>
              <a:gdLst/>
              <a:ahLst/>
              <a:rect l="l" t="t" r="r" b="b"/>
              <a:pathLst>
                <a:path w="2267" h="1094">
                  <a:moveTo>
                    <a:pt x="1086" y="30"/>
                  </a:moveTo>
                  <a:lnTo>
                    <a:pt x="0" y="553"/>
                  </a:lnTo>
                  <a:lnTo>
                    <a:pt x="1117" y="1093"/>
                  </a:lnTo>
                  <a:lnTo>
                    <a:pt x="2266" y="538"/>
                  </a:lnTo>
                  <a:lnTo>
                    <a:pt x="1149" y="0"/>
                  </a:lnTo>
                  <a:lnTo>
                    <a:pt x="1086" y="30"/>
                  </a:lnTo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18240" y="2616840"/>
              <a:ext cx="816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re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26" name=""/>
          <p:cNvCxnSpPr/>
          <p:nvPr/>
        </p:nvCxnSpPr>
        <p:spPr>
          <a:xfrm flipV="1">
            <a:off x="7808400" y="2912760"/>
            <a:ext cx="118440" cy="265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7" name=""/>
          <p:cNvCxnSpPr/>
          <p:nvPr/>
        </p:nvCxnSpPr>
        <p:spPr>
          <a:xfrm flipV="1">
            <a:off x="7926120" y="1723320"/>
            <a:ext cx="586440" cy="795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6960" y="-12600"/>
            <a:ext cx="829008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487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dc2300"/>
                </a:solidFill>
                <a:latin typeface="Comic Sans MS"/>
              </a:rPr>
              <a:t>To Do</a:t>
            </a:r>
            <a:endParaRPr b="0" lang="en-US" sz="3600" spc="-1" strike="noStrike">
              <a:solidFill>
                <a:srgbClr val="dc23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18680" y="1292040"/>
            <a:ext cx="842508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ts val="3487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inish integration with mrLoadRe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ts val="3487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lish web interf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ts val="3487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ine-tune DB stru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ts val="3487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curity &amp; backup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ts val="3487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rack data relo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9800" indent="-282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pider file structure to find lost dataset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6960" y="-12600"/>
            <a:ext cx="829008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487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dc2300"/>
                </a:solidFill>
                <a:latin typeface="Comic Sans MS"/>
              </a:rPr>
              <a:t>To Do</a:t>
            </a:r>
            <a:endParaRPr b="0" lang="en-US" sz="3600" spc="-1" strike="noStrike">
              <a:solidFill>
                <a:srgbClr val="dc23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18680" y="1292040"/>
            <a:ext cx="842508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ts val="3487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nage unfolds and seg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9800" indent="-28260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ach dataset (raw or derived) may be linked to other datasets via coordinate transform functions (T)- eg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ithin subjects using coregistration-derived transfor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cross subjects using functionally-defined ROIs and Talairach coordin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