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A84-C2E1-4ADD-AB38-E6CD2FD1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9E9-0873-45AF-B486-302A1DC9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5A6F-B548-4A64-80FD-E813550B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3A6-8EC0-45E7-BA63-53D09FF6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5D5-B391-4BA7-81BD-22B4390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63A-407B-42E4-B527-9DB082AB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2BA-EEF2-4CD3-B0E0-720CA206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A71-6F8E-4851-AABF-1D15B91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597C-8CF6-4C11-9C60-23E77A58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C95-8291-408A-92ED-03698DF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DC9-3B5E-4981-8967-3A575593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CB9-B0C6-43B9-9B06-5EA67FED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88176-FC55-4ED2-8CD1-72FFEC218D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1280" y="77760"/>
            <a:ext cx="3708720" cy="4241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40360" y="1258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319640" y="12589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7160" y="284040"/>
            <a:ext cx="3733560" cy="421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199280" y="1079640"/>
            <a:ext cx="2181240" cy="218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78400" y="900000"/>
            <a:ext cx="2181240" cy="21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92120" y="539640"/>
            <a:ext cx="4368960" cy="41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559640" y="118440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143680" y="1184400"/>
            <a:ext cx="187632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1200" y="1619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199280" y="251928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219640" y="2519280"/>
            <a:ext cx="140040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0720" y="1260360"/>
            <a:ext cx="325116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21440" y="216072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80000" y="2160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6960" y="2043000"/>
            <a:ext cx="3733920" cy="4267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122960" y="2622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82960" y="26226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23:30:06Z</dcterms:created>
  <dc:creator/>
  <dc:description/>
  <dc:language>en-US</dc:language>
  <cp:lastModifiedBy/>
  <cp:revision>1</cp:revision>
  <dc:subject/>
  <dc:title/>
</cp:coreProperties>
</file>