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118-86AB-463C-B821-90ED6D54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7EB-C1B3-4C69-8AB4-98A01B9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C4C-4A97-4C66-99CB-483A3224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555-5E22-4CFC-B7DD-0F70A835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715-3372-4981-AD1B-B3B80AF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C27-BE09-4BA8-899D-E8E67C34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EDE-FA0E-43D0-AC2D-0F2F5C20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5C6-1E9D-4A34-9F9C-E6628DD3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9D09-58EE-46A6-B9BB-5BDE2F9C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E2C-33AC-4103-8438-23F1502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533-4B71-4997-8889-E2A19078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B06B-8A56-4886-AD0D-02F63B3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80A44-20DA-4918-AE9F-08EE0356D1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77760"/>
            <a:ext cx="3708720" cy="4241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0360" y="1258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319640" y="1258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7160" y="284040"/>
            <a:ext cx="3733560" cy="421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99280" y="107964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78400" y="90000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2120" y="539640"/>
            <a:ext cx="4368960" cy="414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9640" y="11844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43680" y="1184400"/>
            <a:ext cx="18763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1200" y="1619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99280" y="25192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19640" y="2519280"/>
            <a:ext cx="140040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32511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21440" y="2160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80000" y="2160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6960" y="2043000"/>
            <a:ext cx="3733920" cy="426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22960" y="2622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82960" y="2622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23:30:06Z</dcterms:created>
  <dc:creator/>
  <dc:description/>
  <dc:language>en-US</dc:language>
  <cp:lastModifiedBy/>
  <cp:revision>1</cp:revision>
  <dc:subject/>
  <dc:title/>
</cp:coreProperties>
</file>