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663E-BAE7-42EA-B7E7-DCF3218BC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259F-1E69-4F36-A950-62E4F590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2738-E3DA-4D6F-BF30-3963864F0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1DDA-F799-4143-80AA-BAA2423BB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11ED-A977-4AFD-ADF8-E3F5A376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A683-9AE0-43FC-92D0-568A9689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E508-6DE6-486A-9B0C-485E97E1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A9C4-303E-4D6B-B341-BCAD0F1B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1287-FBF6-4783-9602-C6CD8FD1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E24E-32E8-4EA7-8782-A40F7728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2147-4E3D-4BAF-80FB-CBD02A2B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D7CC-A3E9-4FA1-94A2-D280A7A4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4F11-A93A-410D-A736-155ED90E4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wade@white.stanford.edu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rFlatMe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62320" y="2438280"/>
            <a:ext cx="38862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1.7 08/29/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R. Wade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ade@white.stanford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updated: 08/29/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ow do I make a mesh?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32767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: Don’t dec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mrGray5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578304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ow do I make a mesh?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2767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: Don’t smooth here ei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mrGray6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78304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ow do I make a mesh?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2743200"/>
            <a:ext cx="2590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: Make sure you save the mes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.MrM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mrGray7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578340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ow do I make a mesh?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mrGray8" descr=""/>
          <p:cNvPicPr/>
          <p:nvPr/>
        </p:nvPicPr>
        <p:blipFill>
          <a:blip r:embed="rId1"/>
          <a:stretch/>
        </p:blipFill>
        <p:spPr>
          <a:xfrm>
            <a:off x="1066680" y="2225520"/>
            <a:ext cx="6948720" cy="4632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62120" y="16765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: This is the sort of thing you’ll end up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hat n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1295280"/>
            <a:ext cx="8610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making the mesh, pick a start point in mrGr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e order of the coordinates: Z,Y,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mrGray9" descr=""/>
          <p:cNvPicPr/>
          <p:nvPr/>
        </p:nvPicPr>
        <p:blipFill>
          <a:blip r:embed="rId1"/>
          <a:stretch/>
        </p:blipFill>
        <p:spPr>
          <a:xfrm>
            <a:off x="6629400" y="2362320"/>
            <a:ext cx="1911240" cy="4267080"/>
          </a:xfrm>
          <a:prstGeom prst="rect">
            <a:avLst/>
          </a:prstGeom>
          <a:ln w="0">
            <a:noFill/>
          </a:ln>
        </p:spPr>
      </p:pic>
      <p:pic>
        <p:nvPicPr>
          <p:cNvPr id="101" name="mrGray8" descr=""/>
          <p:cNvPicPr/>
          <p:nvPr/>
        </p:nvPicPr>
        <p:blipFill>
          <a:blip r:embed="rId2"/>
          <a:stretch/>
        </p:blipFill>
        <p:spPr>
          <a:xfrm>
            <a:off x="304920" y="2438280"/>
            <a:ext cx="533376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ow run mrFlatMe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144792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unfoldMeshImage" descr=""/>
          <p:cNvPicPr/>
          <p:nvPr/>
        </p:nvPicPr>
        <p:blipFill>
          <a:blip r:embed="rId1"/>
          <a:stretch/>
        </p:blipFill>
        <p:spPr>
          <a:xfrm>
            <a:off x="2362320" y="1447920"/>
            <a:ext cx="4721040" cy="51084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85800" y="5105520"/>
            <a:ext cx="2362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46483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0880" y="990720"/>
            <a:ext cx="814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the relevant files, enter the appropriate start points and g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s it run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144792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581280" y="1447920"/>
            <a:ext cx="4577040" cy="4952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3733920"/>
            <a:ext cx="2743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atus bar and status window will keep you informed about what’s going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038480"/>
            <a:ext cx="25909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4343400"/>
            <a:ext cx="205740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right_tal_layers" descr=""/>
          <p:cNvPicPr/>
          <p:nvPr/>
        </p:nvPicPr>
        <p:blipFill>
          <a:blip r:embed="rId1"/>
          <a:srcRect l="8337" t="0" r="8293" b="5501"/>
          <a:stretch/>
        </p:blipFill>
        <p:spPr>
          <a:xfrm>
            <a:off x="5943600" y="3962520"/>
            <a:ext cx="3048120" cy="2590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9144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get to see the unfolded mesh, the manifold distance map, the layer 1 gNodes (with their interconnections) and the 2D locations of all the gNo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right_tal_l1gray" descr=""/>
          <p:cNvPicPr/>
          <p:nvPr/>
        </p:nvPicPr>
        <p:blipFill>
          <a:blip r:embed="rId2"/>
          <a:srcRect l="12507" t="0" r="8293" b="11061"/>
          <a:stretch/>
        </p:blipFill>
        <p:spPr>
          <a:xfrm>
            <a:off x="4267080" y="1965240"/>
            <a:ext cx="2286000" cy="1924200"/>
          </a:xfrm>
          <a:prstGeom prst="rect">
            <a:avLst/>
          </a:prstGeom>
          <a:ln w="0">
            <a:noFill/>
          </a:ln>
        </p:spPr>
      </p:pic>
      <p:pic>
        <p:nvPicPr>
          <p:cNvPr id="117" name="right_tal_mesh" descr=""/>
          <p:cNvPicPr/>
          <p:nvPr/>
        </p:nvPicPr>
        <p:blipFill>
          <a:blip r:embed="rId3"/>
          <a:srcRect l="18000" t="0" r="14000" b="6001"/>
          <a:stretch/>
        </p:blipFill>
        <p:spPr>
          <a:xfrm>
            <a:off x="0" y="2666880"/>
            <a:ext cx="2278080" cy="2362320"/>
          </a:xfrm>
          <a:prstGeom prst="rect">
            <a:avLst/>
          </a:prstGeom>
          <a:ln w="0">
            <a:noFill/>
          </a:ln>
        </p:spPr>
      </p:pic>
      <p:pic>
        <p:nvPicPr>
          <p:cNvPr id="118" name="right_tal_distMap" descr=""/>
          <p:cNvPicPr/>
          <p:nvPr/>
        </p:nvPicPr>
        <p:blipFill>
          <a:blip r:embed="rId4"/>
          <a:srcRect l="20000" t="0" r="5002" b="3998"/>
          <a:stretch/>
        </p:blipFill>
        <p:spPr>
          <a:xfrm>
            <a:off x="2209680" y="3886200"/>
            <a:ext cx="2667240" cy="2560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flipH="1">
            <a:off x="3276360" y="1143000"/>
            <a:ext cx="2057400" cy="304812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5410080" y="1600200"/>
            <a:ext cx="152640" cy="53352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447920" y="1219320"/>
            <a:ext cx="1218960" cy="152388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s it run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144792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7467120" y="1752480"/>
            <a:ext cx="381240" cy="243864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hat’s in flat.m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144792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3686040" cy="1866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8" name=""/>
          <p:cNvSpPr/>
          <p:nvPr/>
        </p:nvSpPr>
        <p:spPr>
          <a:xfrm flipH="1">
            <a:off x="4190760" y="2133720"/>
            <a:ext cx="1904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4114440" y="2514240"/>
            <a:ext cx="2057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4191120" y="2666880"/>
            <a:ext cx="22096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4038480" y="2971800"/>
            <a:ext cx="190512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533520" y="2819160"/>
            <a:ext cx="6094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248520" y="1676520"/>
            <a:ext cx="28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vature map from mrGray – used to make flat anatom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36576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d locations of gray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24480" y="2514600"/>
            <a:ext cx="26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d locations of flattened gray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4724280"/>
            <a:ext cx="2666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rything that was printed in the status window during the unf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3886200"/>
            <a:ext cx="426708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ful unfold para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Str 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Time: '20-Feb-2001 11:38:42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Time: '20-Feb-2001 11:44:51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imType: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hFile: [1x56 char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yFile: [1x56 char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c etc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xample data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590920"/>
            <a:ext cx="84582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usr/local/matlab/toolbox/mri/mrFlatMesh/exampleData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hat does it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67652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fold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eshes generated by mrGray’s 3D visualisation rout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p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gray layers to the unfolded mesh to generate a flat.mat f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source code and mex f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1828800"/>
            <a:ext cx="8458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usr/local/matlab/toolbox/mri/mrFlatMesh/Csource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2971800"/>
            <a:ext cx="8686800" cy="37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tw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les required for mrFlatMe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rManDis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veryone’s favorite manifold distance rout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: Replaced by 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jikst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 in recent vers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ignToNeares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two sets of 3D coords and for each point in the first set, returns the index of the nearest point in the second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gt;&gt; a=rand(10,3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gt;&gt; b=rand(5,3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gt;&gt; c=assignToNearest(a,b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’ is now a 5x1 vector containing and index into ‘a’ for each member of ‘b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elp f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19810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online help system is provid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343400" y="1600200"/>
            <a:ext cx="4576680" cy="49528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809880" y="2362320"/>
            <a:ext cx="4114800" cy="2743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048120"/>
            <a:ext cx="4419720" cy="23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ose interested, the callback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eb1 = 'web([''file:///'' which(''unfoldMeshHelp.html'')],''browser'')'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eb2 = 'web([''file:///'' which(''unfoldMeshHelp.html'')])'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val(web1,web2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ther questions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600200"/>
            <a:ext cx="85345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don’t like GU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Try (and look at and copy and edi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consoleUnf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es it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t is much faster and it generates sane-looking retinotopies. I have no numbers on the relative distortions between mrUnfold and mrFlatMe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ther questions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1676520"/>
            <a:ext cx="830556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’s all gone wro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Make sure you’ve made the mesh properly and that the voxel sizes in mrFlatMesh and mrGray match. Also, note that you must use the &gt;new&lt; version of mrGray (the one that saves out mesh voxel sizes). You can get this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red/u2/pc/dist/mrGray.exe if it’s not already in your p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remote users can download it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hite.stanford.edu/~brian/mri/segmentUnfold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’re still stuck,  email wade@white.stanford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mparison with mrUnfo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419720" y="2209680"/>
            <a:ext cx="4024080" cy="36514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52280" y="2209680"/>
            <a:ext cx="3625920" cy="36576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821160" y="1793880"/>
            <a:ext cx="24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Unfold (50m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6360" y="1752480"/>
            <a:ext cx="32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FlatMesh 1.0 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80m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Bugs and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2133720"/>
            <a:ext cx="662940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ajor bug was discovered in v1.0. This causes some layer 1 gNodes to become mis-assigned or removed altogether. In general, this makes the resulting flat maps a little ‘rougher’ or blurrier. There should not be any significant qualitative changes to the data. This bug is fixed in v 1.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FlatMesh is now believed to run under solaris 2.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ow do I run 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4792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mrFlatMe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om the matlab promp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mrFlatMesh brings up mrFlatMesh.fi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hat does it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144792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unfoldMeshImage" descr=""/>
          <p:cNvPicPr/>
          <p:nvPr/>
        </p:nvPicPr>
        <p:blipFill>
          <a:blip r:embed="rId1"/>
          <a:stretch/>
        </p:blipFill>
        <p:spPr>
          <a:xfrm>
            <a:off x="2362320" y="1447920"/>
            <a:ext cx="4721040" cy="5108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66680" y="5410080"/>
            <a:ext cx="2362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5638680" y="60199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752480"/>
            <a:ext cx="106668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002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219320" y="3809880"/>
            <a:ext cx="14475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7086240" y="37339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327672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34320" y="327672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447920"/>
            <a:ext cx="3124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of the .gray fi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nerated by mrG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438280"/>
            <a:ext cx="3124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of the .MrM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nerated by mrG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124080"/>
            <a:ext cx="3124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s of start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ound in mrGr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267080"/>
            <a:ext cx="312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nimum radius of the unf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1814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us ind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91520" y="571500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us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3124080"/>
            <a:ext cx="167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m per voxel in mrGray – default set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638320" y="472428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15200" y="4267080"/>
            <a:ext cx="16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utput file path : “flat.mat”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6172200" y="51814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467480" y="50292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ML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hat does it wa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144792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371600"/>
            <a:ext cx="80010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hing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sh fi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is is generated when you run mrGray’s 3D visualisation rout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y fi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se are the gray nodes that will be mapped to the mesh. Save this out from mrG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put file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mrFlatMesh will save a “flat.mat” file. You can call it anything you lik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ow do I make a mesh?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75248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: Once you’ve segmented your white matter in mrGray, grow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r fewer) layers of gray matter. Save the gray matter in a file with a .gray suffix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mrGray1" descr=""/>
          <p:cNvPicPr/>
          <p:nvPr/>
        </p:nvPicPr>
        <p:blipFill>
          <a:blip r:embed="rId1"/>
          <a:stretch/>
        </p:blipFill>
        <p:spPr>
          <a:xfrm>
            <a:off x="2743200" y="3124080"/>
            <a:ext cx="434340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ow do I make a mesh?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75248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Then open the 3D visualisation menu. You will see a series of tabbed option screens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mrGray2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5181480" cy="4128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867280" y="3200400"/>
            <a:ext cx="28958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der the white/ gray bound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‘marching cubes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a note of the voxel dimens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ow do I make a mesh?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mrGray3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5867640" cy="4673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172200" y="327672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: Don’t overlay any functional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ow do I make a mesh?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32767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: Don’t smo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mrGray4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578304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8T23:01:30Z</dcterms:created>
  <dc:creator>Alex Wade</dc:creator>
  <dc:description/>
  <dc:language>en-US</dc:language>
  <cp:lastModifiedBy>wade</cp:lastModifiedBy>
  <dcterms:modified xsi:type="dcterms:W3CDTF">2001-09-04T17:37:17Z</dcterms:modified>
  <cp:revision>14</cp:revision>
  <dc:subject/>
  <dc:title>New unfold procedures</dc:title>
</cp:coreProperties>
</file>