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7003375" cy="36002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8C3-90E3-4277-9F60-16212CE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1080" y="2081196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CC6-C0F8-455D-B522-114F636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80384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A92-2281-4401-BF40-AA411C20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568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785080" y="840060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1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568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785080" y="20811960"/>
            <a:ext cx="782532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7B2-76C6-49B3-961C-76C5D32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49"/>
              </a:spcBef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E1D-86F9-4709-84D9-0E3CBEB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504-FE96-4F64-A406-8ABE452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702-D95D-48BE-9D16-0C49866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42C-D34C-48C4-9B44-DDF08FC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1080" y="1441080"/>
            <a:ext cx="2430288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49"/>
              </a:spcBef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8CE-9557-4916-926B-12A212B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4B0-A329-4F02-BD8A-B459406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803840" y="2081196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6AC-C3AE-4C86-9C8D-2B51D18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108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803840" y="8400600"/>
            <a:ext cx="118594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1080" y="20811960"/>
            <a:ext cx="24302880" cy="113342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indent="0">
              <a:spcBef>
                <a:spcPts val="3149"/>
              </a:spcBef>
              <a:buNone/>
              <a:tabLst>
                <a:tab algn="l" pos="3600360"/>
                <a:tab algn="l" pos="7201080"/>
                <a:tab algn="l" pos="10801440"/>
              </a:tabLst>
            </a:pP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09C-48F9-42D4-AAED-B4C9A6E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1080" y="1441080"/>
            <a:ext cx="24302880" cy="600084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1080" y="8400600"/>
            <a:ext cx="24302880" cy="23761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t">
            <a:normAutofit/>
          </a:bodyPr>
          <a:p>
            <a:pPr marL="1349280" indent="-134928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1" marL="2924280" indent="-1123920">
              <a:spcBef>
                <a:spcPts val="3149"/>
              </a:spcBef>
              <a:buClr>
                <a:srgbClr val="000000"/>
              </a:buClr>
              <a:buFont typeface="Arial"/>
              <a:buChar char="–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2" marL="4500720" indent="-90036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3" marL="6300720" indent="-900000">
              <a:spcBef>
                <a:spcPts val="3149"/>
              </a:spcBef>
              <a:buClr>
                <a:srgbClr val="000000"/>
              </a:buClr>
              <a:buFont typeface="Arial"/>
              <a:buChar char="–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4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5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  <a:p>
            <a:pPr lvl="6" marL="8101080" indent="-900000">
              <a:spcBef>
                <a:spcPts val="3149"/>
              </a:spcBef>
              <a:buClr>
                <a:srgbClr val="000000"/>
              </a:buClr>
              <a:buFont typeface="Arial"/>
              <a:buChar char="»"/>
              <a:tabLst>
                <a:tab algn="l" pos="3600360"/>
                <a:tab algn="l" pos="7201080"/>
                <a:tab algn="l" pos="10801440"/>
              </a:tabLst>
            </a:pPr>
            <a:r>
              <a:rPr b="0" lang="en-US" sz="1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51080" y="33370560"/>
            <a:ext cx="630072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600360"/>
                <a:tab algn="l" pos="7201080"/>
                <a:tab algn="l" pos="10801440"/>
              </a:tabLst>
              <a:defRPr b="0" lang="en-US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r>
              <a:rPr b="0" lang="en-US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226080" y="33370560"/>
            <a:ext cx="855036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p>
            <a:pPr indent="0"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353240" y="33370560"/>
            <a:ext cx="6300720" cy="191772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80000" bIns="180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600360"/>
                <a:tab algn="l" pos="7201080"/>
                <a:tab algn="l" pos="10801440"/>
              </a:tabLst>
              <a:defRPr b="0" lang="en-GB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600360"/>
                <a:tab algn="l" pos="7201080"/>
                <a:tab algn="l" pos="10801440"/>
              </a:tabLst>
            </a:pPr>
            <a:fld id="{B248E606-8567-4487-8655-3743ABEA0A09}" type="slidenum">
              <a:rPr b="0" lang="en-GB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right_cond1"/>
          <p:cNvPicPr/>
          <p:nvPr/>
        </p:nvPicPr>
        <p:blipFill>
          <a:blip r:embed="rId1"/>
          <a:srcRect l="22566" t="0" r="22098" b="0"/>
          <a:stretch/>
        </p:blipFill>
        <p:spPr>
          <a:xfrm>
            <a:off x="1643040" y="700092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eft_cond1.tiff"/>
          <p:cNvPicPr/>
          <p:nvPr/>
        </p:nvPicPr>
        <p:blipFill>
          <a:blip r:embed="rId2"/>
          <a:srcRect l="22027" t="0" r="22636" b="0"/>
          <a:stretch/>
        </p:blipFill>
        <p:spPr>
          <a:xfrm>
            <a:off x="10858680" y="700092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eft_cond2.tiff"/>
          <p:cNvPicPr/>
          <p:nvPr/>
        </p:nvPicPr>
        <p:blipFill>
          <a:blip r:embed="rId3"/>
          <a:srcRect l="22566" t="0" r="21562" b="0"/>
          <a:stretch/>
        </p:blipFill>
        <p:spPr>
          <a:xfrm>
            <a:off x="10858680" y="15716160"/>
            <a:ext cx="7429320" cy="757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eft_cond3.tiff"/>
          <p:cNvPicPr/>
          <p:nvPr/>
        </p:nvPicPr>
        <p:blipFill>
          <a:blip r:embed="rId4"/>
          <a:srcRect l="22566" t="0" r="21562" b="0"/>
          <a:stretch/>
        </p:blipFill>
        <p:spPr>
          <a:xfrm>
            <a:off x="10858680" y="24431760"/>
            <a:ext cx="7429320" cy="757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right_cond2.tiff"/>
          <p:cNvPicPr/>
          <p:nvPr/>
        </p:nvPicPr>
        <p:blipFill>
          <a:blip r:embed="rId5"/>
          <a:srcRect l="22027" t="0" r="22636" b="0"/>
          <a:stretch/>
        </p:blipFill>
        <p:spPr>
          <a:xfrm>
            <a:off x="1643040" y="15716160"/>
            <a:ext cx="7358040" cy="757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right_cond3.tiff"/>
          <p:cNvPicPr/>
          <p:nvPr/>
        </p:nvPicPr>
        <p:blipFill>
          <a:blip r:embed="rId6"/>
          <a:srcRect l="22566" t="0" r="22098" b="0"/>
          <a:stretch/>
        </p:blipFill>
        <p:spPr>
          <a:xfrm>
            <a:off x="1643040" y="24431760"/>
            <a:ext cx="7358040" cy="757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top_cond1.tiff"/>
          <p:cNvPicPr/>
          <p:nvPr/>
        </p:nvPicPr>
        <p:blipFill>
          <a:blip r:embed="rId7"/>
          <a:srcRect l="28243" t="0" r="27169" b="0"/>
          <a:stretch/>
        </p:blipFill>
        <p:spPr>
          <a:xfrm>
            <a:off x="19859760" y="7429680"/>
            <a:ext cx="5929200" cy="757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top_cond2.tiff"/>
          <p:cNvPicPr/>
          <p:nvPr/>
        </p:nvPicPr>
        <p:blipFill>
          <a:blip r:embed="rId8"/>
          <a:srcRect l="27651" t="0" r="27220" b="0"/>
          <a:stretch/>
        </p:blipFill>
        <p:spPr>
          <a:xfrm>
            <a:off x="19788120" y="16144920"/>
            <a:ext cx="6000840" cy="75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op_cond3.tiff"/>
          <p:cNvPicPr/>
          <p:nvPr/>
        </p:nvPicPr>
        <p:blipFill>
          <a:blip r:embed="rId9"/>
          <a:srcRect l="27938" t="0" r="26933" b="0"/>
          <a:stretch/>
        </p:blipFill>
        <p:spPr>
          <a:xfrm>
            <a:off x="19788120" y="24860160"/>
            <a:ext cx="6000840" cy="75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6" descr="36vox_pMTG_top.tiff"/>
          <p:cNvPicPr/>
          <p:nvPr/>
        </p:nvPicPr>
        <p:blipFill>
          <a:blip r:embed="rId1"/>
          <a:srcRect l="26169" t="0" r="25159" b="0"/>
          <a:stretch/>
        </p:blipFill>
        <p:spPr>
          <a:xfrm>
            <a:off x="19502280" y="24788880"/>
            <a:ext cx="6643800" cy="7572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2vox_pMTG_left.tiff"/>
          <p:cNvPicPr/>
          <p:nvPr/>
        </p:nvPicPr>
        <p:blipFill>
          <a:blip r:embed="rId2"/>
          <a:srcRect l="18320" t="0" r="17304" b="0"/>
          <a:stretch/>
        </p:blipFill>
        <p:spPr>
          <a:xfrm>
            <a:off x="10287000" y="15716160"/>
            <a:ext cx="8786880" cy="757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2vox_pMTG_top.tiff"/>
          <p:cNvPicPr/>
          <p:nvPr/>
        </p:nvPicPr>
        <p:blipFill>
          <a:blip r:embed="rId3"/>
          <a:srcRect l="27741" t="0" r="25159" b="0"/>
          <a:stretch/>
        </p:blipFill>
        <p:spPr>
          <a:xfrm>
            <a:off x="19716840" y="16144920"/>
            <a:ext cx="6429240" cy="75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36vox_pMTG_left.tiff"/>
          <p:cNvPicPr/>
          <p:nvPr/>
        </p:nvPicPr>
        <p:blipFill>
          <a:blip r:embed="rId4"/>
          <a:srcRect l="22506" t="0" r="18352" b="0"/>
          <a:stretch/>
        </p:blipFill>
        <p:spPr>
          <a:xfrm>
            <a:off x="10787040" y="24503040"/>
            <a:ext cx="8072640" cy="757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LIFG_right.tiff"/>
          <p:cNvPicPr/>
          <p:nvPr/>
        </p:nvPicPr>
        <p:blipFill>
          <a:blip r:embed="rId5"/>
          <a:srcRect l="22506" t="0" r="21493" b="0"/>
          <a:stretch/>
        </p:blipFill>
        <p:spPr>
          <a:xfrm>
            <a:off x="1571760" y="7000920"/>
            <a:ext cx="7643520" cy="757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LIFG_top.tiff"/>
          <p:cNvPicPr/>
          <p:nvPr/>
        </p:nvPicPr>
        <p:blipFill>
          <a:blip r:embed="rId6"/>
          <a:srcRect l="18320" t="0" r="21493" b="0"/>
          <a:stretch/>
        </p:blipFill>
        <p:spPr>
          <a:xfrm>
            <a:off x="10287000" y="7072200"/>
            <a:ext cx="8215200" cy="757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LIFG_top.tiff"/>
          <p:cNvPicPr/>
          <p:nvPr/>
        </p:nvPicPr>
        <p:blipFill>
          <a:blip r:embed="rId7"/>
          <a:srcRect l="28263" t="0" r="26203" b="0"/>
          <a:stretch/>
        </p:blipFill>
        <p:spPr>
          <a:xfrm>
            <a:off x="19788120" y="7429680"/>
            <a:ext cx="6215040" cy="757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LIFG_right.tiff"/>
          <p:cNvPicPr/>
          <p:nvPr/>
        </p:nvPicPr>
        <p:blipFill>
          <a:blip r:embed="rId8"/>
          <a:srcRect l="22506" t="0" r="21493" b="0"/>
          <a:stretch/>
        </p:blipFill>
        <p:spPr>
          <a:xfrm>
            <a:off x="1571760" y="15716160"/>
            <a:ext cx="7643520" cy="7572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LIFG_right.tiff"/>
          <p:cNvPicPr/>
          <p:nvPr/>
        </p:nvPicPr>
        <p:blipFill>
          <a:blip r:embed="rId9"/>
          <a:srcRect l="22506" t="0" r="21493" b="0"/>
          <a:stretch/>
        </p:blipFill>
        <p:spPr>
          <a:xfrm>
            <a:off x="1571760" y="24431760"/>
            <a:ext cx="764352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56:54Z</dcterms:created>
  <dc:creator>University of York</dc:creator>
  <dc:description/>
  <dc:language>en-US</dc:language>
  <cp:lastModifiedBy>University of York</cp:lastModifiedBy>
  <dcterms:modified xsi:type="dcterms:W3CDTF">2012-01-17T17:03:08Z</dcterms:modified>
  <cp:revision>3</cp:revision>
  <dc:subject/>
  <dc:title>Slide 1</dc:title>
</cp:coreProperties>
</file>