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003375" cy="36002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299-982E-4FC6-B103-F577DDE0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1080" y="2081196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D40-0D0F-4E74-B0D6-DFC726E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80384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43B-99D6-48C3-85FD-BF47B0B9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568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785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1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568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785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4FC-EDDB-46C1-B2F7-D80B3AAC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49"/>
              </a:spcBef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BE5-FB51-4BA6-ADB6-0BC8FB0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0F5-87EF-4A4D-824A-4318DAC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86C-B103-4604-A671-46CA246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50D-B0C9-41AC-9EDD-B445FAE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1080" y="1441080"/>
            <a:ext cx="2430288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49"/>
              </a:spcBef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BCE-D540-4AB0-AE90-72952322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3E8-B21A-4DB9-A1CD-FF932DC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80384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1BF-E8CD-4F8E-9F22-71FE413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A44-1EE7-4CED-BB1D-7C23EC8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marL="1349280" indent="-134928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1" marL="2924280" indent="-1123920">
              <a:spcBef>
                <a:spcPts val="3149"/>
              </a:spcBef>
              <a:buClr>
                <a:srgbClr val="000000"/>
              </a:buClr>
              <a:buFont typeface="Arial"/>
              <a:buChar char="–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2" marL="4500720" indent="-90036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3" marL="6300720" indent="-900000">
              <a:spcBef>
                <a:spcPts val="3149"/>
              </a:spcBef>
              <a:buClr>
                <a:srgbClr val="000000"/>
              </a:buClr>
              <a:buFont typeface="Arial"/>
              <a:buChar char="–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4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5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6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51080" y="33370560"/>
            <a:ext cx="630072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lstStyle>
            <a:lvl1pPr indent="0">
              <a:buNone/>
              <a:tabLst>
                <a:tab algn="l" pos="0"/>
                <a:tab algn="l" pos="3600360"/>
                <a:tab algn="l" pos="7201080"/>
                <a:tab algn="l" pos="10801440"/>
              </a:tabLst>
              <a:defRPr b="0" lang="en-US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r>
              <a:rPr b="0" lang="en-US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226080" y="33370560"/>
            <a:ext cx="855036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353240" y="33370560"/>
            <a:ext cx="630072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lstStyle>
            <a:lvl1pPr indent="0" algn="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  <a:defRPr b="0" lang="en-GB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fld id="{CBFD7457-CF2D-4985-90C2-F87ADAD1C166}" type="slidenum">
              <a:rPr b="0" lang="en-GB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right_cond1"/>
          <p:cNvPicPr/>
          <p:nvPr/>
        </p:nvPicPr>
        <p:blipFill>
          <a:blip r:embed="rId1"/>
          <a:srcRect l="22566" t="0" r="22098" b="0"/>
          <a:stretch/>
        </p:blipFill>
        <p:spPr>
          <a:xfrm>
            <a:off x="1643040" y="700092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eft_cond1.tiff"/>
          <p:cNvPicPr/>
          <p:nvPr/>
        </p:nvPicPr>
        <p:blipFill>
          <a:blip r:embed="rId2"/>
          <a:srcRect l="22027" t="0" r="22636" b="0"/>
          <a:stretch/>
        </p:blipFill>
        <p:spPr>
          <a:xfrm>
            <a:off x="10858680" y="700092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eft_cond2.tiff"/>
          <p:cNvPicPr/>
          <p:nvPr/>
        </p:nvPicPr>
        <p:blipFill>
          <a:blip r:embed="rId3"/>
          <a:srcRect l="22566" t="0" r="21562" b="0"/>
          <a:stretch/>
        </p:blipFill>
        <p:spPr>
          <a:xfrm>
            <a:off x="10858680" y="15716160"/>
            <a:ext cx="7429320" cy="757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eft_cond3.tiff"/>
          <p:cNvPicPr/>
          <p:nvPr/>
        </p:nvPicPr>
        <p:blipFill>
          <a:blip r:embed="rId4"/>
          <a:srcRect l="22566" t="0" r="21562" b="0"/>
          <a:stretch/>
        </p:blipFill>
        <p:spPr>
          <a:xfrm>
            <a:off x="10858680" y="24431760"/>
            <a:ext cx="7429320" cy="757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right_cond2.tiff"/>
          <p:cNvPicPr/>
          <p:nvPr/>
        </p:nvPicPr>
        <p:blipFill>
          <a:blip r:embed="rId5"/>
          <a:srcRect l="22027" t="0" r="22636" b="0"/>
          <a:stretch/>
        </p:blipFill>
        <p:spPr>
          <a:xfrm>
            <a:off x="1643040" y="15716160"/>
            <a:ext cx="7358040" cy="757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right_cond3.tiff"/>
          <p:cNvPicPr/>
          <p:nvPr/>
        </p:nvPicPr>
        <p:blipFill>
          <a:blip r:embed="rId6"/>
          <a:srcRect l="22566" t="0" r="22098" b="0"/>
          <a:stretch/>
        </p:blipFill>
        <p:spPr>
          <a:xfrm>
            <a:off x="1643040" y="2443176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top_cond1.tiff"/>
          <p:cNvPicPr/>
          <p:nvPr/>
        </p:nvPicPr>
        <p:blipFill>
          <a:blip r:embed="rId7"/>
          <a:srcRect l="28243" t="0" r="27169" b="0"/>
          <a:stretch/>
        </p:blipFill>
        <p:spPr>
          <a:xfrm>
            <a:off x="19859760" y="7429680"/>
            <a:ext cx="5929200" cy="757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top_cond2.tiff"/>
          <p:cNvPicPr/>
          <p:nvPr/>
        </p:nvPicPr>
        <p:blipFill>
          <a:blip r:embed="rId8"/>
          <a:srcRect l="27651" t="0" r="27220" b="0"/>
          <a:stretch/>
        </p:blipFill>
        <p:spPr>
          <a:xfrm>
            <a:off x="19788120" y="16144920"/>
            <a:ext cx="6000840" cy="75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op_cond3.tiff"/>
          <p:cNvPicPr/>
          <p:nvPr/>
        </p:nvPicPr>
        <p:blipFill>
          <a:blip r:embed="rId9"/>
          <a:srcRect l="27938" t="0" r="26933" b="0"/>
          <a:stretch/>
        </p:blipFill>
        <p:spPr>
          <a:xfrm>
            <a:off x="19788120" y="24860160"/>
            <a:ext cx="6000840" cy="75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56:54Z</dcterms:created>
  <dc:creator>University of York</dc:creator>
  <dc:description/>
  <dc:language>en-US</dc:language>
  <cp:lastModifiedBy>University of York</cp:lastModifiedBy>
  <dcterms:modified xsi:type="dcterms:W3CDTF">2012-01-16T17:04:52Z</dcterms:modified>
  <cp:revision>1</cp:revision>
  <dc:subject/>
  <dc:title>Slide 1</dc:title>
</cp:coreProperties>
</file>